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CFDA-C95E-4416-A953-B8F9E5B2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FCCE-E88A-4852-82E6-572958BA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EED5-61FB-47A7-9035-BD5B2526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D64E-5A2C-48C1-A102-4CCDE317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6245-C88F-4229-9E8B-F1C5862F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EB01-F826-463A-9801-6CE00300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F6E6-E792-4339-A268-E841D275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6909-4ED1-4AF8-986C-8BBE01C7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FDC0-FA04-4520-8CA0-DE3D3906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76212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F17E-3812-4C6D-B67D-29F88F01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45C8-C3D4-4A5F-973A-813D0EE5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A017-AF24-4D5C-B032-732B14E1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65DC-FEC7-4CA2-9C44-B473EA03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FBD4-0335-406E-9BC9-BE15722A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02A1-AA30-41EA-ACF1-652CB1EF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261F-EFD4-404F-8A39-21E4DF62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6D0E-5568-4AD2-9FBA-2F30D749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616-A4F1-44E6-A701-9E1F3E6A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3FCE-9DDB-4094-9D7D-CC0103CA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86F8-244F-4E27-908B-F2F74BE6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76212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10C0-B396-49BD-BF4B-1A73EA0E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13D-B7DF-4500-BBA1-0B60FA1D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D4A-B045-42AE-9A0D-FABABE18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244F-C44A-41BF-80A1-1A00AA77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370160"/>
            <a:ext cx="8080560" cy="1555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lin ang="108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7691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752480"/>
            <a:ext cx="7769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2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32618-2D45-4CEA-98CE-A2581596B06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44360" y="512640"/>
          <a:ext cx="104004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512640"/>
                    <a:ext cx="104004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89750-0657-4371-B321-773DF001828A}" type="slidenum"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651120" y="2063880"/>
          <a:ext cx="1951200" cy="19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1120" y="2063880"/>
                    <a:ext cx="195120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ntroduction to Using Semgr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19112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é Kid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ors can be combined via “or” with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de that is either an agent or a nsubj in the grap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with nodes, &amp; takes precedence over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 &amp; &gt;amod {lemma:re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ent nod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ubject modified by the word ‘red’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operators are left-assoc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relation can be negated with “!” pref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/VB.*/} !@ {tag:/VB.*/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verb that is not aligned to another ver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imes when the pattern will be being matched on a pair of graphs and their alignment, the default search point is the graph that where the alignments are f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override this, place a ‘@’ at the beginning of the patt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for a hypGraph, txtGraph and alignment hyp-&gt;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ner:LOCATION} @ {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hypGraph aligned to nodes in the txt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 {ner:LOCATION} @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txtGraph that are aligned to nodes in the hyp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pecify operation order, use [ and 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nn} [ &lt;prep_in {} | &lt;prep_on {} ] @ {#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un that is the dependent of either a prep_in or prep_on relation and is aligned to NO_WO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ed relations can be neg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put ! before the 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want to find two nodes connected by any relation which have a pair of nodes aligned to them with the sam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relations with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relation in a pattern is the one that is stored as th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{} &gt;/.*subj|agent/=reln {}) @ ({} &gt;=reln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retrieve the string form of the relation found in the graph later by using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name nodes as well as 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nodes with = and if the node matches, we can retrieve node by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nsubj {}=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 with subject found by this pattern is stored by the name “ver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node in the pattern is the one stored under that name. All others must be equal to that first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({} &gt;nsubj {}=subject} @ ({} &gt;nsubj ({} @ {}=subjec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s a node that is both the governor of an nsubj relation to a node called “subject” and aligned to a node that is the governor of an nsubj relation to a node aligned to the node labeled as “subjec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al Relations to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imes we want to try to match a sub-expression to retrieve named nodes if they exist, but still match if sub-expression fai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optional relation prefix ‘?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{} &gt;/nsubj|agent/ {}=subject ?&gt;/.*obj/ {}=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s nodes that are governors of nsubj or agent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de also is the governor of some sort of object relation, then, we can retrieve the object using the key “objec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object, the expression will still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be combined with ne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used in front of bracketed relations: ?[….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4640" y="1600200"/>
            <a:ext cx="795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grex usage i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reg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s of calling the matcher: for a single Semantic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 two SemanticGraphs and an Alignment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5091120"/>
            <a:ext cx="8839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hypGraph, alignment,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txt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while (m.find()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ystem.out.println(m.getMatch().word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1981080"/>
            <a:ext cx="904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“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({} &gt;nsubj {}=subject} @ ({} &gt;nsubj ({} @ {}=subject))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Pattern p = SemgrexPattern.compile(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886200"/>
            <a:ext cx="72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30600" y="1981080"/>
            <a:ext cx="789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IndexedFeatureLabel sub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m.getNode(“subject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ubjReln = m.getRelnString(“subjReln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676520"/>
            <a:ext cx="82296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node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Node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relation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RelnString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Bef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subj = hypGraph.getChildWithReln(root, "nsubj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subj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lignedRoot = problem.getTxtWord(roo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 != IndexedFeatureLabel.NO_WORD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ppos = txtGraph.getChildWithReln(alignedRoot, "appos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st&lt;IndexedFeatureLabel&gt; apposition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txtGraph.getChildrenWithReln(problem.getTxtWord(subj), "nn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catch (IllegalArgumentException e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new ArrayList&lt;IndexedFeatureLabel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appos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problem.getTxtWord(subj)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if (!appositionList.isEmpty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oolean appositionPositiveFiring = fal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r (IndexedFeatureLabel apposition : appositionList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PositiveFiring = tru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!appositionPositiveFiring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Af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heckAttributiveStructure(hypGraph) &amp;&amp; !checkAttributiveStructure(txtGraph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VERBOSE) System.err.println("in check copula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Pattern copulaPat = SemgrexPattern.compile("({}=subj &lt;nsubj ({$}=root @ {}=alignedRoot)) @ ({} [ [&gt;nn {}=alignedRoot] | [&lt;appos {}=alignedRoot]])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Matcher copulaMatcher = copulaPat.matcher(hypGraph, problem.getAlignment(), txtGraph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opulaMatcher.find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Semgr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utility (in javanlp) for identifying patterns in Stanford JavaNL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like Tregex, which does this for tree structures (Levy, Andrew 2006) and is based on tgrep-2 style syntax and functionality. (These slides adapted from the structure of the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the same way you use regular expressions to find patterns in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760" y="29592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8760" y="66438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76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8220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95480" y="29592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876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971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25800" y="29592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2895480"/>
            <a:ext cx="1027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6120" y="29592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78640" y="29592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37320" y="29592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02720" y="29592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220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76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8220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76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78220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876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78220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876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8220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8220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5480" y="66438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6643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25800" y="66438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9040" y="6643800"/>
            <a:ext cx="10270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6120" y="66438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78640" y="66438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37320" y="66438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02720" y="66438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661120" y="3490200"/>
            <a:ext cx="2829960" cy="1690560"/>
            <a:chOff x="2661120" y="3490200"/>
            <a:chExt cx="2829960" cy="1690560"/>
          </a:xfrm>
        </p:grpSpPr>
        <p:sp>
          <p:nvSpPr>
            <p:cNvPr id="124" name=""/>
            <p:cNvSpPr/>
            <p:nvPr/>
          </p:nvSpPr>
          <p:spPr>
            <a:xfrm>
              <a:off x="3530520" y="349020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Sans"/>
                </a:rPr>
                <a:t>bou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1120" y="4812480"/>
              <a:ext cx="60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B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22560" y="480780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shi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4" idx="2"/>
              <a:endCxn id="125" idx="0"/>
            </p:cNvCxnSpPr>
            <p:nvPr/>
          </p:nvCxnSpPr>
          <p:spPr>
            <a:xfrm rot="5400000">
              <a:off x="3023280" y="3799080"/>
              <a:ext cx="953280" cy="1073520"/>
            </a:xfrm>
            <a:prstGeom prst="bentConnector3">
              <a:avLst>
                <a:gd name="adj1" fmla="val 49943"/>
              </a:avLst>
            </a:prstGeom>
            <a:ln cap="sq" w="9360">
              <a:solidFill>
                <a:srgbClr val="000000"/>
              </a:solidFill>
              <a:round/>
            </a:ln>
          </p:spPr>
        </p:cxnSp>
        <p:cxnSp>
          <p:nvCxnSpPr>
            <p:cNvPr id="128" name=""/>
            <p:cNvCxnSpPr>
              <a:stCxn id="124" idx="2"/>
              <a:endCxn id="126" idx="0"/>
            </p:cNvCxnSpPr>
            <p:nvPr/>
          </p:nvCxnSpPr>
          <p:spPr>
            <a:xfrm flipH="1" rot="16200000">
              <a:off x="4121640" y="3773160"/>
              <a:ext cx="948600" cy="1119960"/>
            </a:xfrm>
            <a:prstGeom prst="bentConnector3">
              <a:avLst>
                <a:gd name="adj1" fmla="val 49962"/>
              </a:avLst>
            </a:prstGeom>
            <a:ln cap="sq" w="9360">
              <a:solidFill>
                <a:srgbClr val="000000"/>
              </a:solidFill>
              <a:round/>
            </a:ln>
          </p:spPr>
        </p:cxnSp>
        <p:sp>
          <p:nvSpPr>
            <p:cNvPr id="129" name=""/>
            <p:cNvSpPr/>
            <p:nvPr/>
          </p:nvSpPr>
          <p:spPr>
            <a:xfrm>
              <a:off x="2880360" y="3989880"/>
              <a:ext cx="6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nsu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71560" y="398520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o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955680" y="4635360"/>
            <a:ext cx="2616120" cy="1688400"/>
            <a:chOff x="3955680" y="4635360"/>
            <a:chExt cx="2616120" cy="1688400"/>
          </a:xfrm>
        </p:grpSpPr>
        <p:sp>
          <p:nvSpPr>
            <p:cNvPr id="132" name=""/>
            <p:cNvSpPr/>
            <p:nvPr/>
          </p:nvSpPr>
          <p:spPr>
            <a:xfrm>
              <a:off x="5087880" y="4635360"/>
              <a:ext cx="181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55680" y="59554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26760" y="5950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2" idx="2"/>
              <a:endCxn id="133" idx="0"/>
            </p:cNvCxnSpPr>
            <p:nvPr/>
          </p:nvCxnSpPr>
          <p:spPr>
            <a:xfrm rot="5400000">
              <a:off x="4166280" y="4943160"/>
              <a:ext cx="953280" cy="1071000"/>
            </a:xfrm>
            <a:prstGeom prst="bentConnector3">
              <a:avLst>
                <a:gd name="adj1" fmla="val 49943"/>
              </a:avLst>
            </a:prstGeom>
            <a:ln cap="sq" w="9360">
              <a:solidFill>
                <a:srgbClr val="000000"/>
              </a:solidFill>
              <a:round/>
            </a:ln>
          </p:spPr>
        </p:cxnSp>
        <p:cxnSp>
          <p:nvCxnSpPr>
            <p:cNvPr id="136" name=""/>
            <p:cNvCxnSpPr>
              <a:stCxn id="132" idx="2"/>
              <a:endCxn id="134" idx="0"/>
            </p:cNvCxnSpPr>
            <p:nvPr/>
          </p:nvCxnSpPr>
          <p:spPr>
            <a:xfrm flipH="1" rot="16200000">
              <a:off x="5263920" y="4916160"/>
              <a:ext cx="948600" cy="1119600"/>
            </a:xfrm>
            <a:prstGeom prst="bentConnector3">
              <a:avLst>
                <a:gd name="adj1" fmla="val 49962"/>
              </a:avLst>
            </a:prstGeom>
            <a:ln cap="sq" w="9360">
              <a:solidFill>
                <a:srgbClr val="000000"/>
              </a:solidFill>
              <a:round/>
            </a:ln>
          </p:spPr>
        </p:cxnSp>
        <p:sp>
          <p:nvSpPr>
            <p:cNvPr id="137" name=""/>
            <p:cNvSpPr/>
            <p:nvPr/>
          </p:nvSpPr>
          <p:spPr>
            <a:xfrm>
              <a:off x="4127040" y="513288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0840" y="512820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a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rot="18360000">
            <a:off x="4808160" y="3261960"/>
            <a:ext cx="1422360" cy="3733560"/>
          </a:xfrm>
          <a:prstGeom prst="ellipse">
            <a:avLst/>
          </a:prstGeom>
          <a:noFill/>
          <a:ln cap="sq" w="2556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809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400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{tag:/VB.*/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&gt;dobj ({} &gt;amod {lemma:red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More Hel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information and links to other sources of documentation are available 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lp.stanford.edu/software/tregex.s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find a bug (i.e. a pattern that should work but doesn’t) or need more help, em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-nlp-user@lists.stanford.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grex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are composed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od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representing IndexedWords,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them, representing edge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Matchers can be used on singular SemanticGraph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wo SemanticGraphs and an Alignment between th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n RTE problem has the hypothesis graph, the text graph, and the alignment from the hypothesis graph’s IndexedFeatureLabels to the text graph’s IndexedFeature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return matches for IndexedFeatureLabel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358560"/>
            <a:ext cx="7243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represented as {attr1:value1;attr2:value2;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ributes are regular strings; values can be strings or regular expressions marked by “/”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lemma:run;pos:/VB.*/}  =&gt; any verb form of the word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} is any node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$} is any root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#} is the empty word (IndexedFeatureLabel.NO_WO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s up when working with al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s can be negated with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!{lemma:boy} =&gt; any word that isn’t “bo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358560"/>
            <a:ext cx="7243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represented as {attr1:value1;attr2:value2;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$;pos:/VB.*/} =&gt; any root ver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expressions can be used to produce ne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2000" indent="-565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lemma:/^{?!boy}.*$/} =&gt; any word that isn’t “bo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haps you want a node that is either word with an ner TIME tag, or the lemma “when”. The node {ner:TIME;lemma:when} does not accomplish this OR 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brackets and | to specify these group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{lemma:locate} | {ner:LOCATION}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either a word with a lemma “locate” or a word with LOCATION 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be negated by putting a ! In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get the combination of a positive and a negative trait, you can use () and the == oper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{word:Paris} == !{ner:LOCATION}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has the text Paris without being a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between nodes can be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in Semgrex have two parts: the relation symbol and the relation type: i.e. &lt;nsu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dep-&gt;gov chain from A that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gov&gt;dep chain from A that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@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aligned to B through an Alignment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types can be regular strings or regular expressions encased by “/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complex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ons can be strung together for “and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lations are relative to first node in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} &gt;nsubj {}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the governor of both an nsubj relation and a dobj rel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symbol is optional: {} &gt;nsubj {} &amp;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can be grouped w/ parenth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pos:NN} @ ({} &lt;nsubj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un that is aligned to a node that is the dependent of an nsubj relation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same as {pos:NN} @ {}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20:42:46Z</dcterms:created>
  <dc:creator>Gates Rm. 454</dc:creator>
  <dc:description/>
  <dc:language>en-US</dc:language>
  <cp:lastModifiedBy/>
  <dcterms:modified xsi:type="dcterms:W3CDTF">2019-12-04T20:24:21Z</dcterms:modified>
  <cp:revision>59</cp:revision>
  <dc:subject/>
  <dc:title>Introduction to Tregex</dc:title>
</cp:coreProperties>
</file>