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F73-BCCF-4C2C-929C-6AA475BD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362-CE7A-45EC-8935-3224880B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56B-0E54-43F9-95D1-CAEC36ED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A999-FB37-4D4C-BB48-0F8A5879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CF6C-249E-42EF-BFC3-582C376B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D31C-2F3E-4650-9E01-E9CA98BB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310E-E420-40CE-9134-BF604150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B387-2297-4935-8E82-17E80B61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C706-A089-4822-8686-8D35134E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7621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B2B7-2C3A-485B-977F-A87DCA27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FE64-5BB1-43BC-AC45-C0BA6CAB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655-BCD8-4E46-A7A9-8DAE10EE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D958-B424-4ADA-B71A-49F713D8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AA44-039E-4C5A-8D39-433334DD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981E-8A54-486E-8345-C80DF6CE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F79B-628F-4258-9B1D-5616A767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6486-A44B-4AE5-9052-9418DFB7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2250-AE90-446A-849B-62A1E0EB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801-B0D8-4CD2-ACB4-021D179F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E0A8-313F-4A33-BDDD-64037EE0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7621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8D9-DDAE-43C3-9EFA-5BED7AB5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5A53-973C-49F1-ACDD-B20E6CB0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E26-746C-4FE5-B2BE-49C55C29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124-7C76-45D8-98D4-F51F57E8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370160"/>
            <a:ext cx="8080560" cy="1555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lin ang="108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7691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752480"/>
            <a:ext cx="7769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B5138-C5B3-4444-9197-3498B983382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44360" y="512640"/>
          <a:ext cx="104004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512640"/>
                    <a:ext cx="104004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92F6B-6EA4-4B32-A3BB-17BF597CC488}" type="slidenum"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651120" y="2063880"/>
          <a:ext cx="1951200" cy="19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1120" y="2063880"/>
                    <a:ext cx="19512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Using Semgr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19112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é Ki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ors can be combined via “or” with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de that is either an agent or a nsubj in the grap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with nodes, &amp; takes precedence over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 &amp; &gt;amod {lemma:re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ent no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ubject modified by the word ‘red’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operators are left-assoc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relation can be negated with “!” pref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/VB.*/} !@ {tag:/VB.*/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verb that is not aligned to another ver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imes when the pattern will be being matched on a pair of graphs and their alignment, the default search point is the graph that where the alignments are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verride this, place a ‘@’ at the beginning of the patt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for a hypGraph, txtGraph and alignment hyp-&gt;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ner:LOCATION} @ {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hypGraph aligned to nodes in the txt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 {ner:LOCATION} @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txtGraph that are aligned to nodes in the hyp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pecify operation order, use [ and 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nn} [ &lt;prep_in {} | &lt;prep_on {} ] @ {#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un that is the dependent of either a prep_in or prep_on relation and is aligned to NO_WO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ed relations can be neg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put ! before the 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want to find two nodes connected by any relation which have a pair of nodes aligned to them with the sam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relations with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relation in a pattern is the one that is stored as th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{} &gt;/.*subj|agent/=reln {}) @ ({} &gt;=reln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retrieve the string form of the relation found in the graph later by using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name nodes as well as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nodes with = and if the node matches, we can retrieve node by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nsubj {}=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 with subject found by this pattern is stored by the name “ver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node in the pattern is the one stored under that name. All others must be equal to that firs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({} &gt;nsubj {}=subject} @ ({} &gt;nsubj ({} @ {}=subjec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s a node that is both the governor of an nsubj relation to a node called “subject” and aligned to a node that is the governor of an nsubj relation to a node aligned to the node labeled as “subj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Relations to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we want to try to match a sub-expression to retrieve named nodes if they exist, but still match if sub-expression fai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ptional relation prefix ‘?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{} &gt;/nsubj|agent/ {}=subject ?&gt;/.*obj/ {}=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s nodes that are governors of nsubj or agent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de also is the governor of some sort of object relation, then, we can retrieve the object using the key “obje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object, the expression will stil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combined with n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in front of bracketed relations: ?[…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4640" y="160020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grex usage i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reg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s of calling the matcher: for a single Semantic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 two SemanticGraphs and an Alignment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5091120"/>
            <a:ext cx="883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hypGraph, alignment,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txt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while (m.find()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ystem.out.println(m.getMatch().word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1981080"/>
            <a:ext cx="904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“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({} &gt;nsubj {}=subject} @ ({} &gt;nsubj ({} @ {}=subject))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Pattern p = SemgrexPattern.compile(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88620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30600" y="1981080"/>
            <a:ext cx="789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IndexedFeatureLabel sub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m.getNode(“subject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ubjReln = m.getRelnString(“subjReln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676520"/>
            <a:ext cx="82296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node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Node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relation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RelnString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Bef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subj = hypGraph.getChildWithReln(root, "nsubj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subj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lignedRoot = problem.getTxtWord(roo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 != IndexedFeatureLabel.NO_WORD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ppos = txtGraph.getChildWithReln(alignedRoot, "appos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st&lt;IndexedFeatureLabel&gt; apposition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txtGraph.getChildrenWithReln(problem.getTxtWord(subj), "nn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catch (IllegalArgumentException e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new ArrayList&lt;IndexedFeatureLabel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appos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problem.getTxtWord(subj)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if (!appositionList.isEmpty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oolean appositionPositiveFiring = fal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 (IndexedFeatureLabel apposition : appositionList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PositiveFiring = tr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!appositionPositiveFiring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Af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heckAttributiveStructure(hypGraph) &amp;&amp; !checkAttributiveStructure(txtGraph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VERBOSE) System.err.println("in check copula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Pattern copulaPat = SemgrexPattern.compile("({}=subj &lt;nsubj ({$}=root @ {}=alignedRoot)) @ ({} [ [&gt;nn {}=alignedRoot] | [&lt;appos {}=alignedRoot]])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Matcher copulaMatcher = copulaPat.matcher(hypGraph, problem.getAlignment(), txtGraph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opulaMatcher.find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Semgr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utility (in javanlp) for identifying patterns in Stanford JavaNL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Tregex, which does this for tree structures (Levy, Andrew 2006) and is based on tgrep-2 style syntax and functionality. (These slides adapted from the structure of the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he same way you use regular expressions to find patterns in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760" y="29592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8760" y="66438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76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8220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95480" y="29592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76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971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25800" y="29592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895480"/>
            <a:ext cx="1027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6120" y="29592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78640" y="29592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37320" y="29592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02720" y="29592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220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76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8220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76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78220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8220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8220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8220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5480" y="66438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6643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5800" y="66438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9040" y="6643800"/>
            <a:ext cx="1027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6120" y="66438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78640" y="66438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37320" y="66438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02720" y="66438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61120" y="3490200"/>
            <a:ext cx="2829960" cy="1690560"/>
            <a:chOff x="2661120" y="3490200"/>
            <a:chExt cx="2829960" cy="1690560"/>
          </a:xfrm>
        </p:grpSpPr>
        <p:sp>
          <p:nvSpPr>
            <p:cNvPr id="124" name=""/>
            <p:cNvSpPr/>
            <p:nvPr/>
          </p:nvSpPr>
          <p:spPr>
            <a:xfrm>
              <a:off x="3530520" y="349020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Sans"/>
                </a:rPr>
                <a:t>bou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1120" y="4812480"/>
              <a:ext cx="60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22560" y="480780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shi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4" idx="2"/>
              <a:endCxn id="125" idx="0"/>
            </p:cNvCxnSpPr>
            <p:nvPr/>
          </p:nvCxnSpPr>
          <p:spPr>
            <a:xfrm rot="5400000">
              <a:off x="3023280" y="3799080"/>
              <a:ext cx="953280" cy="1073520"/>
            </a:xfrm>
            <a:prstGeom prst="bentConnector3">
              <a:avLst>
                <a:gd name="adj1" fmla="val 49943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cxnSp>
          <p:nvCxnSpPr>
            <p:cNvPr id="128" name=""/>
            <p:cNvCxnSpPr>
              <a:stCxn id="124" idx="2"/>
              <a:endCxn id="126" idx="0"/>
            </p:cNvCxnSpPr>
            <p:nvPr/>
          </p:nvCxnSpPr>
          <p:spPr>
            <a:xfrm flipH="1" rot="16200000">
              <a:off x="4121640" y="3773160"/>
              <a:ext cx="948600" cy="1119960"/>
            </a:xfrm>
            <a:prstGeom prst="bentConnector3">
              <a:avLst>
                <a:gd name="adj1" fmla="val 49962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sp>
          <p:nvSpPr>
            <p:cNvPr id="129" name=""/>
            <p:cNvSpPr/>
            <p:nvPr/>
          </p:nvSpPr>
          <p:spPr>
            <a:xfrm>
              <a:off x="2880360" y="398988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nsu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1560" y="398520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o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55680" y="4635360"/>
            <a:ext cx="2616120" cy="1688400"/>
            <a:chOff x="3955680" y="4635360"/>
            <a:chExt cx="2616120" cy="1688400"/>
          </a:xfrm>
        </p:grpSpPr>
        <p:sp>
          <p:nvSpPr>
            <p:cNvPr id="132" name=""/>
            <p:cNvSpPr/>
            <p:nvPr/>
          </p:nvSpPr>
          <p:spPr>
            <a:xfrm>
              <a:off x="5087880" y="4635360"/>
              <a:ext cx="181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5680" y="59554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26760" y="5950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2" idx="2"/>
              <a:endCxn id="133" idx="0"/>
            </p:cNvCxnSpPr>
            <p:nvPr/>
          </p:nvCxnSpPr>
          <p:spPr>
            <a:xfrm rot="5400000">
              <a:off x="4166280" y="4943160"/>
              <a:ext cx="953280" cy="1071000"/>
            </a:xfrm>
            <a:prstGeom prst="bentConnector3">
              <a:avLst>
                <a:gd name="adj1" fmla="val 49943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cxnSp>
          <p:nvCxnSpPr>
            <p:cNvPr id="136" name=""/>
            <p:cNvCxnSpPr>
              <a:stCxn id="132" idx="2"/>
              <a:endCxn id="134" idx="0"/>
            </p:cNvCxnSpPr>
            <p:nvPr/>
          </p:nvCxnSpPr>
          <p:spPr>
            <a:xfrm flipH="1" rot="16200000">
              <a:off x="5263920" y="4916160"/>
              <a:ext cx="948600" cy="1119600"/>
            </a:xfrm>
            <a:prstGeom prst="bentConnector3">
              <a:avLst>
                <a:gd name="adj1" fmla="val 49962"/>
              </a:avLst>
            </a:prstGeom>
            <a:ln cap="sq" w="9360">
              <a:solidFill>
                <a:srgbClr val="000000"/>
              </a:solidFill>
              <a:round/>
            </a:ln>
          </p:spPr>
        </p:cxnSp>
        <p:sp>
          <p:nvSpPr>
            <p:cNvPr id="137" name=""/>
            <p:cNvSpPr/>
            <p:nvPr/>
          </p:nvSpPr>
          <p:spPr>
            <a:xfrm>
              <a:off x="4127040" y="513288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0840" y="512820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a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8360000">
            <a:off x="4808160" y="3261960"/>
            <a:ext cx="1422360" cy="3733560"/>
          </a:xfrm>
          <a:prstGeom prst="ellipse">
            <a:avLst/>
          </a:prstGeom>
          <a:noFill/>
          <a:ln cap="sq" w="2556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809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400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{tag:/VB.*/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gt;dobj ({} &gt;amod {lemma:red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Hel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information and links to other sources of documentation are available 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lp.stanford.edu/software/tregex.s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find a bug (i.e. a pattern that should work but doesn’t) or need more help, 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-nlp-user@lists.stanford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grex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are composed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epresenting IndexedWords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them, representing edge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Matchers can be used on singular SemanticGraph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wo SemanticGraphs and an Alignment between th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n RTE problem has the hypothesis graph, the text graph, and the alignment from the hypothesis graph’s IndexedFeatureLabels to the text graph’s IndexedFeature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return matches for IndexedFeatureLabel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358560"/>
            <a:ext cx="7243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represented as {attr1:value1;attr2:value2;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s are regular strings; values can be strings or regular expressions marked by “/”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lemma:run;pos:/VB.*/}  =&gt; any verb form of the word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} is any node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$} is any root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#} is the empty word (IndexedFeatureLabel.NO_W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up when working with al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s can be negated with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!{lemma:boy} =&gt; any word that isn’t “bo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358560"/>
            <a:ext cx="7243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represented as {attr1:value1;attr2:value2;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$;pos:/VB.*/} =&gt; any root ver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expressions can be used to produce ne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2000" indent="-565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lemma:/^{?!boy}.*$/} =&gt; any word that isn’t “bo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haps you want a node that is either word with an ner TIME tag, or the lemma “when”. The node {ner:TIME;lemma:when} does not accomplish this OR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brackets and | to specify these group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{lemma:locate} | {ner:LOCATION}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either a word with a lemma “locate” or a word with LOCATION 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negated by putting a ! I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get the combination of a positive and a negative trait, you can use () and the == oper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{word:Paris} == !{ner:LOCATION}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has the text Paris without being a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between nodes can b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in Semgrex have two parts: the relation symbol and the relation type: i.e. &lt;nsu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dep-&gt;gov chain from A that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gov&gt;dep chain from A that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@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aligned to B through an Alignment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types can be regular strings or regular expressions encased by “/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complex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s can be strung together for “an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lations are relative to first node in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} &gt;nsubj {}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the governor of both an nsubj relation and a dobj re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symbol is optional: {} &gt;nsubj {} &amp;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can be grouped w/ paren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os:NN} @ ({} &lt;nsubj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un that is aligned to a node that is the dependent of an nsubj relation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same as {pos:NN} @ {}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20:42:46Z</dcterms:created>
  <dc:creator>Gates Rm. 454</dc:creator>
  <dc:description/>
  <dc:language>en-US</dc:language>
  <cp:lastModifiedBy/>
  <dcterms:modified xsi:type="dcterms:W3CDTF">2019-12-04T20:24:21Z</dcterms:modified>
  <cp:revision>59</cp:revision>
  <dc:subject/>
  <dc:title>Introduction to Tregex</dc:title>
</cp:coreProperties>
</file>