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75E-CB6B-4E50-8219-9667A410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ABB-0985-4239-8AD3-782C3C2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6B5-33B1-497A-BA05-8B0301A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069-C6C0-4566-8840-7B2D0BEA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0D3E-624F-4AA2-806B-F47C3362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79A8-AC19-42F6-8012-B585CD94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71CF-05AC-4661-935E-C4C45A48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680-5507-450E-9535-7301E3C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230B-3DC2-4998-9659-D1F83C5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07D-AD09-4541-8B1B-B0D233AD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2854-E2BC-468D-BACD-1D8091D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279-DCAF-4A45-BDBF-CA71A3C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EC3B-C022-4335-B6CF-8C43153B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5684-8ABB-4191-AD00-39EE706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ECBE-9208-4F04-98E0-22B125A7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19C-08BB-42EB-AD88-D424AAF1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688-C5BF-4DF0-ABE0-FF5F22F5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2FD-AAB8-4C6E-9787-9A5C080C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ED0-F32A-4584-903B-F9E55D39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DF6-A39C-400D-A10A-94D4724A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845-CE96-4A2B-8656-E5BC5798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75C-27D0-4DDB-BDA6-B17BA780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6A1-4931-40DF-99B7-97205AE8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49A-219F-4148-AF99-A1B2D403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370160"/>
            <a:ext cx="8080560" cy="1555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096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096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4CB22-F57D-4A93-BF05-F181331845C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44360" y="512640"/>
          <a:ext cx="1040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512640"/>
                    <a:ext cx="1040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CBC90-5326-4461-BF43-BBA786657CE0}" type="slidenum">
              <a:rPr b="0" lang="en-US" sz="1400" spc="-1" strike="noStrike">
                <a:solidFill>
                  <a:srgbClr val="1c1c1c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651120" y="2063880"/>
          <a:ext cx="1951200" cy="19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1120" y="2063880"/>
                    <a:ext cx="195120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Using Semgr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9112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é Ki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pecify operation order, use [ and 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nn} [ &lt;prep_in {} | &lt;prep_on {} ] @ {#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un that is the dependent of either a prep_in or prep_on relation and is aligned to NO_WO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ed relations can be neg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put ! before the 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want to find two nodes connected by any relation which have a pair of nodes aligned to them with the sam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relations with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relation in a pattern is the one that is stored as the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} &gt;/.*subj|agent/=reln {}) @ ({} &gt;=reln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retrieve the string form of the relation found in the graph later by using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d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name nodes as well as rel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nodes with = and if the node matches, we can retrieve node by that na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nsubj {}=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 with subject found by this pattern is stored by the name “ver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showing of a named node in the pattern is the one stored under that name. All others must be equal to that fir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({} &gt;nsubj {}=subject} @ ({} &gt;nsubj ({} @ {}=subjec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s a node that is both the governor of an nsubj relation to a node called “subject” and aligned to a node that is the governor of an nsubj relation to a node aligned to the node labeled as “subj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Relations to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we want to try to match a sub-expression to retrieve named nodes if they exist, but still match if sub-expression fai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ptional relation prefix ‘?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{} &gt;/nsubj|agent/ {}=subject ?&gt;/.*obj/ {}=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nodes that are governors of nsubj or agent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de also is the governor of some sort of object relation, then, we can retrieve the object using the key “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object, the expression will stil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combined with n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in front of bracketed relations: ?[…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4640" y="160020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grex usage i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reg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s of calling the matcher: for a single Semantic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 two SemanticGraphs and an Alignment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5091120"/>
            <a:ext cx="8839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hypGraph, alignment,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txt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while (m.find()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ystem.out.println(m.getMatch().word(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904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“</a:t>
            </a: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({} &gt;nsubj {}=subject} @ ({} &gt;nsubj ({} @ {}=subject))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Pattern p = SemgrexPattern.compile(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86200"/>
            <a:ext cx="72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emgrexMatcher m = p.matcher(graph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Semgrex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30600" y="1981080"/>
            <a:ext cx="789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IndexedFeatureLabel sub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= m.getNode(“subject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urier New"/>
              </a:rPr>
              <a:t>String subjReln = m.getRelnString(“subjReln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822960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node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Node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d relations are retrieved w/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getRelnString(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subj = hypGraph.getChildWithReln(root, "nsubj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subj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lignedRoot = problem.getTxtWord(root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 != IndexedFeatureLabel.NO_WORD)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appos = txtGraph.getChildWithReln(alignedRoot, "appos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&lt;IndexedFeatureLabel&gt; apposition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txtGraph.getChildrenWithReln(problem.getTxtWord(subj), "nn")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catch (IllegalArgumentException e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List = new ArrayList&lt;IndexedFeatureLabel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appos !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problem.getTxtWord(subj)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 if (!appositionList.isEmpty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olean appositionPositiveFiring = fal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r (IndexedFeatureLabel apposition : appositionList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alignedRoot.equals(appos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ppositionPositiveFiring = tru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!appositionPositiveFiring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root.word() + " and " + subj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 Code Example -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ivate void checkCopula(Problem problem, SemanticGraph hypGraph, SemanticGraph txtGraph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edFeatureLabel root = hypGraph.getFirstRoot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heckAttributiveStructure(hypGraph) &amp;&amp; !checkAttributiveStructure(txtGraph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(VERBOSE) System.err.println("in check copula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Pattern copulaPat = SemgrexPattern.compile("({}=subj &lt;nsubj ({$}=root @ {}=alignedRoot)) @ ({} [ [&gt;nn {}=alignedRoot] | [&lt;appos {}=alignedRoot]])"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mgrexMatcher copulaMatcher = copulaPat.matcher(hypGraph, problem.getAlignment(), txtGraph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(copulaMatcher.find()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ATCH, "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blem.addFeature(this, Feature.APPOSITION_MISMATCH, "no apposition in text between " + copulaMatcher.getNode("root").word() + " and " + copulaMatcher.getNode("subj").word(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More Hel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information and links to other sources of documentation are available 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lp.stanford.edu/software/tregex.s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find a bug (i.e. a pattern that should work but doesn’t) or need more help, em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-nlp-user@lists.stanford.ed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Semgr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91856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utility (in javanlp) for identifying patterns in Stanford JavaNL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Tregex, which does this for tree structures (Levy, Andrew 2006) and is based on tgrep-2 style syntax and functionality. (These slides adapted from the structure of the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 the same way you use regular expressions to find patterns in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760" y="29592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6643800"/>
            <a:ext cx="6667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82200" y="29592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95480" y="29592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876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71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5800" y="29592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895480"/>
            <a:ext cx="1027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6120" y="29592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78640" y="29592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7320" y="29592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2720" y="29592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2200" y="34466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76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82200" y="393372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76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782200" y="442116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82200" y="4908600"/>
            <a:ext cx="1440" cy="48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876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82200" y="5396040"/>
            <a:ext cx="1440" cy="487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876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82200" y="5883120"/>
            <a:ext cx="1440" cy="76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5480" y="6643800"/>
            <a:ext cx="7333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643800"/>
            <a:ext cx="11970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5800" y="6643800"/>
            <a:ext cx="9032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29040" y="6643800"/>
            <a:ext cx="10270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6120" y="6643800"/>
            <a:ext cx="7225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78640" y="6643800"/>
            <a:ext cx="9586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37320" y="6643800"/>
            <a:ext cx="12654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2720" y="6643800"/>
            <a:ext cx="879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1840" y="3490920"/>
            <a:ext cx="2830320" cy="1690560"/>
            <a:chOff x="2661840" y="3490920"/>
            <a:chExt cx="2830320" cy="1690560"/>
          </a:xfrm>
        </p:grpSpPr>
        <p:sp>
          <p:nvSpPr>
            <p:cNvPr id="124" name=""/>
            <p:cNvSpPr/>
            <p:nvPr/>
          </p:nvSpPr>
          <p:spPr>
            <a:xfrm>
              <a:off x="3531600" y="349092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Lucida Sans"/>
                </a:rPr>
                <a:t>bou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1840" y="4813200"/>
              <a:ext cx="60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Bo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23640" y="480852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shi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 flipV="1" rot="10800000">
              <a:off x="2964600" y="3973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28" name=""/>
            <p:cNvCxnSpPr>
              <a:stCxn id="124" idx="2"/>
              <a:endCxn id="126" idx="0"/>
            </p:cNvCxnSpPr>
            <p:nvPr/>
          </p:nvCxnSpPr>
          <p:spPr>
            <a:xfrm>
              <a:off x="4037040" y="3973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9" name=""/>
            <p:cNvSpPr/>
            <p:nvPr/>
          </p:nvSpPr>
          <p:spPr>
            <a:xfrm>
              <a:off x="2880720" y="3990600"/>
              <a:ext cx="67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nsu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1920" y="3985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ob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56400" y="4635360"/>
            <a:ext cx="2616120" cy="1689120"/>
            <a:chOff x="3956400" y="4635360"/>
            <a:chExt cx="2616120" cy="1689120"/>
          </a:xfrm>
        </p:grpSpPr>
        <p:sp>
          <p:nvSpPr>
            <p:cNvPr id="132" name=""/>
            <p:cNvSpPr/>
            <p:nvPr/>
          </p:nvSpPr>
          <p:spPr>
            <a:xfrm>
              <a:off x="5087880" y="463536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6400" y="595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27480" y="59515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Lucida Sans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32" idx="2"/>
              <a:endCxn id="133" idx="0"/>
            </p:cNvCxnSpPr>
            <p:nvPr/>
          </p:nvCxnSpPr>
          <p:spPr>
            <a:xfrm flipV="1" rot="10800000">
              <a:off x="4106160" y="5116320"/>
              <a:ext cx="1073520" cy="724320"/>
            </a:xfrm>
            <a:prstGeom prst="bentConnector3">
              <a:avLst>
                <a:gd name="adj1" fmla="val 49983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136" name=""/>
            <p:cNvCxnSpPr>
              <a:stCxn id="132" idx="2"/>
              <a:endCxn id="134" idx="0"/>
            </p:cNvCxnSpPr>
            <p:nvPr/>
          </p:nvCxnSpPr>
          <p:spPr>
            <a:xfrm>
              <a:off x="5180040" y="5116680"/>
              <a:ext cx="1117800" cy="721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7" name=""/>
            <p:cNvSpPr/>
            <p:nvPr/>
          </p:nvSpPr>
          <p:spPr>
            <a:xfrm>
              <a:off x="4127400" y="513360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d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1560" y="51289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600" spc="-1" strike="noStrike">
                  <a:solidFill>
                    <a:srgbClr val="3333cc"/>
                  </a:solidFill>
                  <a:latin typeface="Lucida Sans"/>
                </a:rPr>
                <a:t>a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8360000">
            <a:off x="4810320" y="3261960"/>
            <a:ext cx="142236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38098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4008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tag:/VB.*/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&gt;dobj ({} &gt;amod {lemma:red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grex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are composed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representing IndexedWords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hem, representing edge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Matchers can be used on singular SemanticGraph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wo SemanticGraphs and an Alignment between th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. an RTE problem has the hypothesis graph, the text graph, and the alignment from the hypothesis graph’s IndexedFeatureLabels to the text graph’s IndexedFeature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grexPatterns return matches for IndexedFeatureLabels in a SemanticGrap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358560"/>
            <a:ext cx="7243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represented as {attr1:value1;attr2:value2;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s are regular strings; values can be strings or regular expressions marked by “/”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lemma:run;pos:/VB.*/}  =&gt; any verb form of the word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} is any node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$} is any root in th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#} is the empty word (IndexedFeatureLabel.NO_WOR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s up when working with al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s can be negated with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!{lemma:boy} =&gt; any word that isn’t “bo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haps you want a node that is either word with an ner TIME tag, or the lemma “when”. The node {ner:TIME;lemma:when} does not accomplish this OR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brackets and | (or &amp;) to specify these group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{lemma:locate} | {ner:LOCATION}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either a word with a lemma “locate” or a word with LOCATION 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negated by putting a ! In f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default, &amp; takes precedence over |, but &amp; has no reason to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-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between node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in Semgrex have two parts: the relation symbol and the relation type: i.e. &lt;nsu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lt;&l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dep-&gt;gov chain from A that is the dependent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&gt;&gt;reln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here is some node in a gov&gt;dep chain from A that is the governor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 with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@ 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A is aligned to B through an Alignment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types can be regular strings or regular expressions encased by “/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complex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s can be strung together for “an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lations are relative to first node in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} &gt;nsubj {}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that is the governor of both an nsubj relation and a dobj rel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symbol is optional: {} &gt;nsubj {} &amp; &gt;do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can be grouped w/ parenth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os:NN} @ ({} &lt;nsubj {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un that is aligned to a node that is the dependent of an nsubj relation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same as {pos:NN} @ {}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ors can be combined via “or” with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de that is either an agent or a nsubj in the grap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with nodes, &amp; takes precedence over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} &lt;agent {} | &lt;nsubj {} &amp; &gt;amod {lemma:re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n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ubject modified by the word ‘red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operators are left-assoc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relation can be negated with “!” pref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{tag:/VB.*/} !@ {tag:/VB.*/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verb that is not aligned to another ver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Operators on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imes when the pattern will be being matched on a pair of graphs and their alignment, the default search point is the graph that where the alignments are f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verride this, place a ‘@’ at the beginning of the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: for a hypGraph, txtGraph and alignment hyp-&gt;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ner:LOCATION} @ {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hypGraph aligned to nodes in the txt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 {ner:LOCATION} @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ll LOCATION nodes in the txtGraph that are aligned to nodes in the hyp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20:42:46Z</dcterms:created>
  <dc:creator>Gates Rm. 454</dc:creator>
  <dc:description/>
  <dc:language>en-US</dc:language>
  <cp:lastModifiedBy>Chloe Kiddon</cp:lastModifiedBy>
  <dcterms:modified xsi:type="dcterms:W3CDTF">2006-08-24T18:05:51Z</dcterms:modified>
  <cp:revision>55</cp:revision>
  <dc:subject/>
  <dc:title>Introduction to Tregex</dc:title>
</cp:coreProperties>
</file>