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BD2C-755F-4627-BFA7-7E4E0A459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605E-E66D-41EE-BC9B-05F0B78A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BA71-6A1E-4F49-9A9C-7967C04C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F4AF-F6DD-4EBC-A8B0-AA5DC2994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2359-C4ED-4425-B35B-2C7241603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FD56-0626-481A-9343-D7504519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811A-CB1A-46FF-B830-08DE5368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F4F6-9A04-4AED-BD22-1C5F36E3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6339-47A9-41E8-9BA6-5433D4CB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5B1D-ADF5-40F5-9384-4CD0FB37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E41B-5C94-45E7-A9C0-5CE97496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1499-085B-48F7-81C9-4A3BA79F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A64F-7529-4988-A2D0-816E1576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AED7-F2E2-4C35-A611-27D2AF6F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D6EA-D44D-4DC6-B750-08A3DCE5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7E06-1A19-4283-A534-9DBDF79B1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63E8-3528-464D-ABD4-47164BFFD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119D-7DF2-4CB2-BF84-EE7F5719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EDFC-2E86-4B59-891A-D79732BC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31F6-BAFD-4B9F-9AFA-22C47995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3F5E-B6F2-4F5D-901F-B190D648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249D-10B5-4C85-AFAB-BBF13C8B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7483-E681-488E-9953-4A3EDBD5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221C-FD94-4860-BD44-63EAFA6F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7080" y="1370160"/>
            <a:ext cx="8080560" cy="15552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09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8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3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4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07E242-0385-4BCA-BE98-DB4DD227F9E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144360" y="512640"/>
          <a:ext cx="1040040" cy="103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512640"/>
                    <a:ext cx="104004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36FB2-900C-430E-BFF4-40A72A77DA0C}" type="slidenum"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651120" y="2063880"/>
          <a:ext cx="1951200" cy="191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1120" y="2063880"/>
                    <a:ext cx="1951200" cy="19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1532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Introduction to Using Semgr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191120"/>
            <a:ext cx="914400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é Kid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ing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specify operation order, use [ and 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tag:nn} [ &lt;prep_in {} | &lt;prep_on {} ] @ {#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un that is the dependent of either a prep_in or prep_on relation and is aligned to NO_WOR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ed relations can be neg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put ! before the 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d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se we want to find two nodes connected by any relation which have a pair of nodes aligned to them with the same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 relations with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rst showing of a named relation in a pattern is the one that is stored as the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{} &gt;/.*subj|agent/=reln {}) @ ({} &gt;=reln {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retrieve the string form of the relation found in the graph later by using that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d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name nodes as well as rel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 nodes with = and if the node matches, we can retrieve node by that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nsubj {}=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 with subject found by this pattern is stored by the name “ver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rst showing of a named node in the pattern is the one stored under that name. All others must be equal to that first 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. ({} &gt;nsubj {}=subject} @ ({} &gt;nsubj ({} @ {}=subjec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s a node that is both the governor of an nsubj relation to a node called “subject” and aligned to a node that is the governor of an nsubj relation to a node aligned to the node labeled as “subjec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al Relations to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times we want to try to match a sub-expression to retrieve named nodes if they exist, but still match if sub-expression fai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optional relation prefix ‘?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: {} &gt;/nsubj|agent/ {}=subject ?&gt;/.*obj/ {}=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es nodes that are governors of nsubj or agent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node also is the governor of some sort of object relation, then, we can retrieve the object using the key “objec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is no object, the expression will still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not be combined with ne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used in front of bracketed relations: ?[….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Semgrex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74640" y="1600200"/>
            <a:ext cx="795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grex usage i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reg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s of calling the matcher: for a single Semantic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for two SemanticGraphs and an Alignment betwee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5091120"/>
            <a:ext cx="8839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Matcher m = p.matcher(hypGraph, alignment,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txtGraph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while (m.find()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ystem.out.println(m.getMatch().word(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981080"/>
            <a:ext cx="9043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tring 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= “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({} &gt;nsubj {}=subject} @ ({} &gt;nsubj ({} @ {}=subject))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Pattern p = SemgrexPattern.compile(s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3886200"/>
            <a:ext cx="723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Matcher m = p.matcher(graph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Semgrex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30600" y="1981080"/>
            <a:ext cx="7892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IndexedFeatureLabel sub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= m.getNode(“subject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tring subjReln = m.getRelnString(“subjReln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676520"/>
            <a:ext cx="822960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d nodes are retrieved w/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getNode(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d relations are retrieved w/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getRelnString(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eal Code Example - Bef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917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ivate void checkCopula(Problem problem, SemanticGraph hypGraph, SemanticGraph txtGraph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root = hypGraph.getFirstRoot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subj = hypGraph.getChildWithReln(root, "nsubj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subj !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alignedRoot = problem.getTxtWord(root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alignedRoot != IndexedFeatureLabel.NO_WORD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appos = txtGraph.getChildWithReln(alignedRoot, "appos")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ist&lt;IndexedFeatureLabel&gt; appositionLis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List = txtGraph.getChildrenWithReln(problem.getTxtWord(subj), "nn")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 catch (IllegalArgumentException e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List = new ArrayList&lt;IndexedFeatureLabel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appos !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problem.getTxtWord(subj).equals(appos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lse if (!appositionList.isEmpty(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oolean appositionPositiveFiring = fals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or (IndexedFeatureLabel apposition : appositionList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alignedRoot.equals(appos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PositiveFiring = tru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!appositionPositiveFiring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eal Code Example - Af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ivate void checkCopula(Problem problem, SemanticGraph hypGraph, SemanticGraph txtGraph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root = hypGraph.getFirstRoot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checkAttributiveStructure(hypGraph) &amp;&amp; !checkAttributiveStructure(txtGraph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VERBOSE) System.err.println("in check copula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mgrexPattern copulaPat = SemgrexPattern.compile("({}=subj &lt;nsubj ({$}=root @ {}=alignedRoot)) @ ({} [ [&gt;nn {}=alignedRoot] | [&lt;appos {}=alignedRoot]])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mgrexMatcher copulaMatcher = copulaPat.matcher(hypGraph, problem.getAlignment(), txtGraph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copulaMatcher.find(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copulaMatcher.getNode("root").word() + " and " + copulaMatcher.getNode("subj")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copulaMatcher.getNode("root").word() + " and " + copulaMatcher.getNode("subj")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More Help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information and links to other sources of documentation are available 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lp.stanford.edu/software/tregex.s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find a bug (i.e. a pattern that should work but doesn’t) or need more help, ema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-nlp-user@lists.stanford.ed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Semgre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918560" cy="22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utility (in javanlp) for identifying patterns in Stanford JavaNLP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anticGrap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like Tregex, which does this for tree structures (Levy, Andrew 2006) and is based on tgrep-2 style syntax and functionality. (These slides adapted from the structure of thei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ed the same way you use regular expressions to find patterns in st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8760" y="2959200"/>
            <a:ext cx="6667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8760" y="6643800"/>
            <a:ext cx="6667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8760" y="29592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782200" y="29592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95480" y="2959200"/>
            <a:ext cx="7333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8760" y="34466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2971800"/>
            <a:ext cx="119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25800" y="2959200"/>
            <a:ext cx="9032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2895480"/>
            <a:ext cx="10270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6120" y="2959200"/>
            <a:ext cx="7225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78640" y="2959200"/>
            <a:ext cx="958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37320" y="2959200"/>
            <a:ext cx="12654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02720" y="2959200"/>
            <a:ext cx="8794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782200" y="34466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760" y="393372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82200" y="393372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8760" y="442116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782200" y="442116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8760" y="49086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782200" y="49086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8760" y="53960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782200" y="53960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8760" y="5883120"/>
            <a:ext cx="1440" cy="760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782200" y="5883120"/>
            <a:ext cx="1440" cy="760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95480" y="6643800"/>
            <a:ext cx="7333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6643800"/>
            <a:ext cx="119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25800" y="6643800"/>
            <a:ext cx="9032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29040" y="6643800"/>
            <a:ext cx="10270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6120" y="6643800"/>
            <a:ext cx="7225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78640" y="6643800"/>
            <a:ext cx="958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37320" y="6643800"/>
            <a:ext cx="12654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02720" y="6643800"/>
            <a:ext cx="8794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661840" y="3490920"/>
            <a:ext cx="2830320" cy="1690560"/>
            <a:chOff x="2661840" y="3490920"/>
            <a:chExt cx="2830320" cy="1690560"/>
          </a:xfrm>
        </p:grpSpPr>
        <p:sp>
          <p:nvSpPr>
            <p:cNvPr id="124" name=""/>
            <p:cNvSpPr/>
            <p:nvPr/>
          </p:nvSpPr>
          <p:spPr>
            <a:xfrm>
              <a:off x="3531600" y="3490920"/>
              <a:ext cx="101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Lucida Sans"/>
                </a:rPr>
                <a:t>bou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61840" y="4813200"/>
              <a:ext cx="60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Bo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23640" y="4808520"/>
              <a:ext cx="6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shi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24" idx="2"/>
              <a:endCxn id="125" idx="0"/>
            </p:cNvCxnSpPr>
            <p:nvPr/>
          </p:nvCxnSpPr>
          <p:spPr>
            <a:xfrm flipV="1" rot="10800000">
              <a:off x="2964600" y="3973320"/>
              <a:ext cx="1073520" cy="724320"/>
            </a:xfrm>
            <a:prstGeom prst="bentConnector3">
              <a:avLst>
                <a:gd name="adj1" fmla="val 49983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128" name=""/>
            <p:cNvCxnSpPr>
              <a:stCxn id="124" idx="2"/>
              <a:endCxn id="126" idx="0"/>
            </p:cNvCxnSpPr>
            <p:nvPr/>
          </p:nvCxnSpPr>
          <p:spPr>
            <a:xfrm>
              <a:off x="4037040" y="3973680"/>
              <a:ext cx="1117800" cy="721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129" name=""/>
            <p:cNvSpPr/>
            <p:nvPr/>
          </p:nvSpPr>
          <p:spPr>
            <a:xfrm>
              <a:off x="2880720" y="3990600"/>
              <a:ext cx="67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nsub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71920" y="3985920"/>
              <a:ext cx="58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dob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956400" y="4635360"/>
            <a:ext cx="2616120" cy="1689120"/>
            <a:chOff x="3956400" y="4635360"/>
            <a:chExt cx="2616120" cy="1689120"/>
          </a:xfrm>
        </p:grpSpPr>
        <p:sp>
          <p:nvSpPr>
            <p:cNvPr id="132" name=""/>
            <p:cNvSpPr/>
            <p:nvPr/>
          </p:nvSpPr>
          <p:spPr>
            <a:xfrm>
              <a:off x="5087880" y="4635360"/>
              <a:ext cx="182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56400" y="59562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27480" y="595152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32" idx="2"/>
              <a:endCxn id="133" idx="0"/>
            </p:cNvCxnSpPr>
            <p:nvPr/>
          </p:nvCxnSpPr>
          <p:spPr>
            <a:xfrm flipV="1" rot="10800000">
              <a:off x="4106160" y="5116320"/>
              <a:ext cx="1073520" cy="724320"/>
            </a:xfrm>
            <a:prstGeom prst="bentConnector3">
              <a:avLst>
                <a:gd name="adj1" fmla="val 49983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136" name=""/>
            <p:cNvCxnSpPr>
              <a:stCxn id="132" idx="2"/>
              <a:endCxn id="134" idx="0"/>
            </p:cNvCxnSpPr>
            <p:nvPr/>
          </p:nvCxnSpPr>
          <p:spPr>
            <a:xfrm>
              <a:off x="5180040" y="5116680"/>
              <a:ext cx="1117800" cy="721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137" name=""/>
            <p:cNvSpPr/>
            <p:nvPr/>
          </p:nvSpPr>
          <p:spPr>
            <a:xfrm>
              <a:off x="4127400" y="513360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d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51560" y="5128920"/>
              <a:ext cx="7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am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rot="18360000">
            <a:off x="4810320" y="3261960"/>
            <a:ext cx="1422360" cy="3733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38098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4008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{tag:/VB.*/}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&gt;dobj ({} &gt;amod {lemma:red}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mgrex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Patterns are composed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od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representing IndexedWords,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lat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tween them, representing edges in a SemanticGra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Matchers can be used on singular SemanticGraph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two SemanticGraphs and an Alignment between the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an RTE problem has the hypothesis graph, the text graph, and the alignment from the hypothesis graph’s IndexedFeatureLabels to the text graph’s IndexedFeature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Patterns return matches for IndexedFeatureLabels in a SemanticGra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358560"/>
            <a:ext cx="7243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ntax -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6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re represented as {attr1:value1;attr2:value2;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ributes are regular strings; values can be strings or regular expressions marked by “/”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lemma:run;pos:/VB.*/}  =&gt; any verb form of the word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} is any node in the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$} is any root in the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#} is the empty word (IndexedFeatureLabel.NO_WOR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s up when working with alig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s can be negated with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!{lemma:boy} =&gt; any word that isn’t “bo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ing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haps you want a node that is either word with an ner TIME tag, or the lemma “when”. The node {ner:TIME;lemma:when} does not accomplish this OR op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use brackets and | (or &amp;) to specify these group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 {lemma:locate} | {ner:LOCATION}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de that is either a word with a lemma “locate” or a word with LOCATION 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lso be negated by putting a ! In f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default, &amp; takes precedence over |, but &amp; has no reason to be u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ntax -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s between nodes can be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 in Semgrex have two parts: the relation symbol and the relation type: i.e. &lt;nsu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l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the dependent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g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the governor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lt;&l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There is some node in a dep-&gt;gov chain from A that is the dependent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gt;&g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There is some node in a gov&gt;dep chain from A that is the governor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@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aligned to B through an Alignment o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types can be regular strings or regular expressions encased by “/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 complex expre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tions can be strung together for “and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elations are relative to first node in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} &gt;nsubj {} &gt;do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de that is the governor of both an nsubj relation and a dobj rel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symbol is optional: {} &gt;nsubj {} &amp; &gt;do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s can be grouped w/ parenthe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pos:NN} @ ({} &lt;nsubj {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un that is aligned to a node that is the dependent of an nsubj relation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he same as {pos:NN} @ {} &lt;nsu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Operators on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tors can be combined via “or” with 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agent {} | &lt;nsu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de that is either an agent or a nsubj in the grap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ke with nodes, &amp; takes precedence over 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agent {} | &lt;nsubj {} &amp; &gt;amod {lemma:re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gent nod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subject modified by the word ‘red’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t operators are left-assoc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y relation can be negated with “!” prefi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tag:/VB.*/} !@ {tag:/VB.*/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verb that is not aligned to another verb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Operators on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times when the pattern will be being matched on a pair of graphs and their alignment, the default search point is the graph that where the alignments are fr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override this, place a ‘@’ at the beginning of the patter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: for a hypGraph, txtGraph and alignment hyp-&gt;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ner:LOCATION} @ {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ll LOCATION nodes in the hypGraph aligned to nodes in the txt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@ {ner:LOCATION} @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ll LOCATION nodes in the txtGraph that are aligned to nodes in the hyp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20:42:46Z</dcterms:created>
  <dc:creator>Gates Rm. 454</dc:creator>
  <dc:description/>
  <dc:language>en-US</dc:language>
  <cp:lastModifiedBy>Chloe Kiddon</cp:lastModifiedBy>
  <dcterms:modified xsi:type="dcterms:W3CDTF">2006-08-24T18:05:51Z</dcterms:modified>
  <cp:revision>55</cp:revision>
  <dc:subject/>
  <dc:title>Introduction to Tregex</dc:title>
</cp:coreProperties>
</file>