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ACC-795C-4348-988B-84E8DC37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77B-BD0E-4F36-B052-8C9464E3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153-AFF6-46EA-A2D7-999B5CE7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EDE-0067-4649-8A32-69BDEF5D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A8A2-7B2C-4C1B-A3B9-37D758BE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ED6F-E901-4C4B-B9C7-7DCA7CCC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E85A-E64B-4F68-9D55-110166AD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A844-95D7-47F1-AA79-88D3CF3A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164C-77B7-4FEF-AF02-57B43B93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DF5D-0381-4198-AAEC-171F386B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AC11-B6A2-441B-B117-D3601FD1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BE2-F2D4-4C21-8D45-159A4975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40FE-7496-4F72-B266-26604687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D4CF-9EBA-4A3D-B571-7C2258D1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F8DF-8F29-4936-B972-0A66E504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2F59-23FD-4512-82E8-9005C1FA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8A59-CA4B-4A8D-A367-04B8D5C1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E05-6FA8-4870-9662-0085507C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8C5-DB0F-46A5-BAF1-A09532BA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E86-DC3F-4620-A54C-BA67D6FC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A18-BE58-4DDD-9938-1D2AA482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E96-7F36-4CF3-A16A-EBDCDF0B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336-3142-4711-9745-7A35C250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258-3C8D-4A90-A81C-A1AFB5EC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09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E63587-1549-4A18-AB0E-090FF6603B0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8FC80-DC43-47CA-8679-37D9368D0126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840" y="3490920"/>
            <a:ext cx="2830320" cy="1690560"/>
            <a:chOff x="2661840" y="3490920"/>
            <a:chExt cx="2830320" cy="1690560"/>
          </a:xfrm>
        </p:grpSpPr>
        <p:sp>
          <p:nvSpPr>
            <p:cNvPr id="124" name=""/>
            <p:cNvSpPr/>
            <p:nvPr/>
          </p:nvSpPr>
          <p:spPr>
            <a:xfrm>
              <a:off x="3531600" y="349092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840" y="481320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3640" y="480852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flipV="1" rot="10800000">
              <a:off x="2964600" y="3973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>
              <a:off x="4037040" y="3973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720" y="39906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920" y="3985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6400" y="4635360"/>
            <a:ext cx="2616120" cy="1689120"/>
            <a:chOff x="3956400" y="4635360"/>
            <a:chExt cx="2616120" cy="168912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6400" y="595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7480" y="5951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flipV="1" rot="10800000">
              <a:off x="4106160" y="5116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>
              <a:off x="5180040" y="5116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400" y="51336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1560" y="51289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10320" y="3261960"/>
            <a:ext cx="142236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(or &amp;)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default, &amp; takes precedence over |, but &amp; has no reason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>Chloe Kiddon</cp:lastModifiedBy>
  <dcterms:modified xsi:type="dcterms:W3CDTF">2006-08-24T18:05:51Z</dcterms:modified>
  <cp:revision>55</cp:revision>
  <dc:subject/>
  <dc:title>Introduction to Tregex</dc:title>
</cp:coreProperties>
</file>