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0AC-DB00-4789-B878-79B4B0B4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E19-8936-44A8-B29D-26DE3026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AF9A-9C56-4773-A341-6D6CD3E7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F19F-FC67-4D36-92F6-BCF3EA90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18FF-501A-4BB7-B239-B70A6216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C61C-2103-4E1A-B4FC-8AE4E829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0962-DCC2-42D2-A1A0-6C971795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DFFF-5374-415D-87E0-D6F7E9F2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9C74-72EE-4C96-AF26-C3AC7EA5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8426-E3C9-4758-B832-922B00E3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2DFF-4324-4FB5-93E7-BFF3E69D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8CA8-BE55-4E23-81E2-F2212069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ACCB-24D6-4B7E-BE8D-CD1426A4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8D68-C7EF-43F8-A8F8-05EB62E0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8679-1058-4D9F-92B8-74241473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4C60-4044-4121-85BC-96EE67C1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9D8F-92EA-4BF5-AE42-7D2F2CE1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B596-EBD6-4E83-819E-2F3848ED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6A65-12B2-4080-91D4-5502C8B0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7F4-C3D7-493A-9D70-CD3E1B14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4C6-262D-4FF7-9C8C-770BB712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72C-19B3-4BC9-8F4A-CE919885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14AD-6A79-4A23-B675-C7E9792F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7AE-BB39-4618-9078-EF2ADE1D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370160"/>
            <a:ext cx="8080560" cy="1555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09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8C46F0-6A7B-4C99-AA5E-15285CF30A9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44360" y="512640"/>
          <a:ext cx="104004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512640"/>
                    <a:ext cx="104004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BD05B-1999-4D10-A161-3661DCCD87BA}" type="slidenum"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651120" y="2063880"/>
          <a:ext cx="1951200" cy="19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1120" y="2063880"/>
                    <a:ext cx="19512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Using Semgr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19112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é Ki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pecify operation order, use [ and 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nn} [ &lt;prep_in {} | &lt;prep_on {} ] @ {#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un that is the dependent of either a prep_in or prep_on relation and is aligned to NO_WO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ed relations can be neg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put ! before the 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want to find two nodes connected by any relation which have a pair of nodes aligned to them with the sam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relations with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relation in a pattern is the one that is stored as th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{} &gt;/.*subj|agent/=reln {}) @ ({} &gt;=reln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retrieve the string form of the relation found in the graph later by using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name nodes as well as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nodes with = and if the node matches, we can retrieve node by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nsubj {}=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 with subject found by this pattern is stored by the name “ver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node in the pattern is the one stored under that name. All others must be equal to that firs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({} &gt;nsubj {}=subject} @ ({} &gt;nsubj ({} @ {}=subjec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s a node that is both the governor of an nsubj relation to a node called “subject” and aligned to a node that is the governor of an nsubj relation to a node aligned to the node labeled as “subj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Relations to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 we want to try to match a sub-expression to retrieve named nodes if they exist, but still match if sub-expression fai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ptional relation prefix ‘?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{} &gt;/nsubj|agent/ {}=subject ?&gt;/.*obj/ {}=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s nodes that are governors of nsubj or agent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de also is the governor of some sort of object relation, then, we can retrieve the object using the key “obje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object, the expression will stil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combined with n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in front of bracketed relations: ?[…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4640" y="160020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grex usage i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reg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s of calling the matcher: for a single Semantic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 two SemanticGraphs and an Alignment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091120"/>
            <a:ext cx="883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hypGraph, alignment,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txt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while (m.find()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ystem.out.println(m.getMatch().word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981080"/>
            <a:ext cx="904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“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({} &gt;nsubj {}=subject} @ ({} &gt;nsubj ({} @ {}=subject))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Pattern p = SemgrexPattern.compile(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88620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30600" y="1981080"/>
            <a:ext cx="789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IndexedFeatureLabel sub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m.getNode(“subject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ubjReln = m.getRelnString(“subjReln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82296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node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Node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relation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RelnString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Bef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subj = hypGraph.getChildWithReln(root, "nsubj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subj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lignedRoot = problem.getTxtWord(roo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 != IndexedFeatureLabel.NO_WORD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ppos = txtGraph.getChildWithReln(alignedRoot, "appos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st&lt;IndexedFeatureLabel&gt; apposition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txtGraph.getChildrenWithReln(problem.getTxtWord(subj), "nn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catch (IllegalArgumentException e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new ArrayList&lt;IndexedFeatureLabel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appos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problem.getTxtWord(subj)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if (!appositionList.isEmpty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oolean appositionPositiveFiring = fal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 (IndexedFeatureLabel apposition : appositionList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PositiveFiring = tr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!appositionPositiveFiring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Af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heckAttributiveStructure(hypGraph) &amp;&amp; !checkAttributiveStructure(txtGraph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VERBOSE) System.err.println("in check copula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Pattern copulaPat = SemgrexPattern.compile("({}=subj &lt;nsubj ({$}=root @ {}=alignedRoot)) @ ({} [ [&gt;nn {}=alignedRoot] | [&lt;appos {}=alignedRoot]])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Matcher copulaMatcher = copulaPat.matcher(hypGraph, problem.getAlignment(), txtGraph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opulaMatcher.find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Hel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information and links to other sources of documentation are available 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lp.stanford.edu/software/tregex.s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find a bug (i.e. a pattern that should work but doesn’t) or need more help, e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-nlp-user@lists.stanford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Semgr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utility (in javanlp) for identifying patterns in Stanford JavaNL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ike Tregex, which does this for tree structures (Levy, Andrew 2006) and is based on tgrep-2 style syntax and functionality. (These slides adapted from the structure of the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the same way you use regular expressions to find patterns in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760" y="29592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8760" y="66438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76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8220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95480" y="29592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76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971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25800" y="29592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895480"/>
            <a:ext cx="1027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6120" y="29592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78640" y="29592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37320" y="29592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02720" y="29592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220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76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8220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76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78220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8220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876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8220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8220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5480" y="66438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6643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5800" y="66438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9040" y="6643800"/>
            <a:ext cx="1027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6120" y="66438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78640" y="66438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37320" y="66438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02720" y="66438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61840" y="3490920"/>
            <a:ext cx="2830320" cy="1690560"/>
            <a:chOff x="2661840" y="3490920"/>
            <a:chExt cx="2830320" cy="1690560"/>
          </a:xfrm>
        </p:grpSpPr>
        <p:sp>
          <p:nvSpPr>
            <p:cNvPr id="124" name=""/>
            <p:cNvSpPr/>
            <p:nvPr/>
          </p:nvSpPr>
          <p:spPr>
            <a:xfrm>
              <a:off x="3531600" y="349092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Sans"/>
                </a:rPr>
                <a:t>bou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1840" y="4813200"/>
              <a:ext cx="60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23640" y="480852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shi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4" idx="2"/>
              <a:endCxn id="125" idx="0"/>
            </p:cNvCxnSpPr>
            <p:nvPr/>
          </p:nvCxnSpPr>
          <p:spPr>
            <a:xfrm flipV="1" rot="10800000">
              <a:off x="2964600" y="3973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28" name=""/>
            <p:cNvCxnSpPr>
              <a:stCxn id="124" idx="2"/>
              <a:endCxn id="126" idx="0"/>
            </p:cNvCxnSpPr>
            <p:nvPr/>
          </p:nvCxnSpPr>
          <p:spPr>
            <a:xfrm>
              <a:off x="4037040" y="3973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29" name=""/>
            <p:cNvSpPr/>
            <p:nvPr/>
          </p:nvSpPr>
          <p:spPr>
            <a:xfrm>
              <a:off x="2880720" y="399060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nsu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1920" y="398592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o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956400" y="4635360"/>
            <a:ext cx="2616120" cy="1689120"/>
            <a:chOff x="3956400" y="4635360"/>
            <a:chExt cx="2616120" cy="1689120"/>
          </a:xfrm>
        </p:grpSpPr>
        <p:sp>
          <p:nvSpPr>
            <p:cNvPr id="132" name=""/>
            <p:cNvSpPr/>
            <p:nvPr/>
          </p:nvSpPr>
          <p:spPr>
            <a:xfrm>
              <a:off x="5087880" y="4635360"/>
              <a:ext cx="18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6400" y="5956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27480" y="59515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2" idx="2"/>
              <a:endCxn id="133" idx="0"/>
            </p:cNvCxnSpPr>
            <p:nvPr/>
          </p:nvCxnSpPr>
          <p:spPr>
            <a:xfrm flipV="1" rot="10800000">
              <a:off x="4106160" y="5116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36" name=""/>
            <p:cNvCxnSpPr>
              <a:stCxn id="132" idx="2"/>
              <a:endCxn id="134" idx="0"/>
            </p:cNvCxnSpPr>
            <p:nvPr/>
          </p:nvCxnSpPr>
          <p:spPr>
            <a:xfrm>
              <a:off x="5180040" y="5116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37" name=""/>
            <p:cNvSpPr/>
            <p:nvPr/>
          </p:nvSpPr>
          <p:spPr>
            <a:xfrm>
              <a:off x="4127400" y="513360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1560" y="51289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a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8360000">
            <a:off x="4810320" y="3261960"/>
            <a:ext cx="1422360" cy="3733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809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400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{tag:/VB.*/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gt;dobj ({} &gt;amod {lemma:red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grex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are composed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representing IndexedWords,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them, representing edge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Matchers can be used on singular SemanticGraph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wo SemanticGraphs and an Alignment between th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n RTE problem has the hypothesis graph, the text graph, and the alignment from the hypothesis graph’s IndexedFeatureLabels to the text graph’s IndexedFeature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return matches for IndexedFeatureLabel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358560"/>
            <a:ext cx="7243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represented as {attr1:value1;attr2:value2;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ibutes are regular strings; values can be strings or regular expressions marked by “/”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lemma:run;pos:/VB.*/}  =&gt; any verb form of the word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} is any node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$} is any root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#} is the empty word (IndexedFeatureLabel.NO_W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s up when working with al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s can be negated with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!{lemma:boy} =&gt; any word that isn’t “bo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haps you want a node that is either word with an ner TIME tag, or the lemma “when”. The node {ner:TIME;lemma:when} does not accomplish this OR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brackets and | (or &amp;) to specify these group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{lemma:locate} | {ner:LOCATION}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either a word with a lemma “locate” or a word with LOCATION 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negated by putting a ! In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default, &amp; takes precedence over |, but &amp; has no reason to b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between nodes can b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in Semgrex have two parts: the relation symbol and the relation type: i.e. &lt;nsu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dep-&gt;gov chain from A that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gov&gt;dep chain from A that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@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aligned to B through an Alignment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types can be regular strings or regular expressions encased by “/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complex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s can be strung together for “an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lations are relative to first node in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} &gt;nsubj {}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the governor of both an nsubj relation and a dobj rel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symbol is optional: {} &gt;nsubj {} &amp;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can be grouped w/ paren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os:NN} @ ({} &lt;nsubj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un that is aligned to a node that is the dependent of an nsubj relation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same as {pos:NN} @ {}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ors can be combined via “or” with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de that is either an agent or a nsubj in the grap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with nodes, &amp; takes precedence over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 &amp; &gt;amod {lemma:re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ent no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ubject modified by the word ‘red’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operators are left-assoc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relation can be negated with “!” pref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/VB.*/} !@ {tag:/VB.*/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verb that is not aligned to another ver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imes when the pattern will be being matched on a pair of graphs and their alignment, the default search point is the graph that where the alignments are f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verride this, place a ‘@’ at the beginning of the patt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for a hypGraph, txtGraph and alignment hyp-&gt;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ner:LOCATION} @ {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hypGraph aligned to nodes in the txt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 {ner:LOCATION} @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txtGraph that are aligned to nodes in the hyp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20:42:46Z</dcterms:created>
  <dc:creator>Gates Rm. 454</dc:creator>
  <dc:description/>
  <dc:language>en-US</dc:language>
  <cp:lastModifiedBy>Chloe Kiddon</cp:lastModifiedBy>
  <dcterms:modified xsi:type="dcterms:W3CDTF">2006-08-24T18:05:51Z</dcterms:modified>
  <cp:revision>55</cp:revision>
  <dc:subject/>
  <dc:title>Introduction to Tregex</dc:title>
</cp:coreProperties>
</file>