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46888" cy="9396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3E552-6292-45D8-BE39-5A35A7743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3C744-FD13-479B-BDA9-6180F63AA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E9A11-8D27-4FA7-9543-227A1FA7F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28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136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FA1BE-B71F-4FD5-A80A-B5CC3410C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53F06-70A6-40A5-8DFA-BE923E111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DB5B0-CBAF-46B0-8D64-CA4C36E36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46141-05E4-4A19-AC80-1F206C869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39C62-5DFD-486D-96B7-C79E34C60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4BA2D-E439-4913-B2EA-BB933DC28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762120"/>
            <a:ext cx="77709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73C8D-10CA-438E-8CCA-95DED7AA4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EE2CD-2F23-4778-A704-A20690B30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5C3BC-6676-4281-BA65-2FF3F30B5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238E6-C870-4F47-8713-2A209CC7F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03029-7ABD-4FBF-8C05-833193866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69B29-696D-49B5-B3CB-7311FDE88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268CF-D44F-4DB2-8CC7-764924838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28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136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9EC60-D4B6-4F96-9580-57D669AFB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37714-A73B-40B1-9B1C-D6D09A640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9B858-894F-49B5-B45D-C168EE039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69477-6920-40B8-8ADB-B703F66CA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762120"/>
            <a:ext cx="77709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14B7E-445A-4CDF-A664-BE2606B65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70A9D-4E67-43E4-B60C-14021D29D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03D86-A420-4E74-8D85-BAEE764A3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F700B-6EA3-4B6E-ACEE-885AF9A53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57080" y="1370160"/>
            <a:ext cx="8080560" cy="155520"/>
          </a:xfrm>
          <a:prstGeom prst="rect">
            <a:avLst/>
          </a:prstGeom>
          <a:gradFill rotWithShape="0">
            <a:gsLst>
              <a:gs pos="0">
                <a:srgbClr val="cc0000"/>
              </a:gs>
              <a:gs pos="100000">
                <a:srgbClr val="0000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371600" y="380880"/>
            <a:ext cx="7770960" cy="98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752120"/>
            <a:ext cx="7770960" cy="487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440" y="6248520"/>
            <a:ext cx="190332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3720" y="6248520"/>
            <a:ext cx="289404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36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296B386-36DC-4D55-80A7-409F44F40B7E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" name=""/>
          <p:cNvGraphicFramePr/>
          <p:nvPr/>
        </p:nvGraphicFramePr>
        <p:xfrm>
          <a:off x="144360" y="512640"/>
          <a:ext cx="1040040" cy="1033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4360" y="512640"/>
                    <a:ext cx="1040040" cy="103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99036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1c1c1c"/>
                </a:solidFill>
                <a:latin typeface="Arial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42864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1c1c1c"/>
                </a:solidFill>
                <a:latin typeface="Arial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8576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1c1c1c"/>
                </a:solidFill>
                <a:latin typeface="Arial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1FED7C-403C-4FAF-BEA9-280672A89CF2}" type="slidenum">
              <a:rPr b="0" lang="en-US" sz="1400" spc="-1" strike="noStrike">
                <a:solidFill>
                  <a:srgbClr val="1c1c1c"/>
                </a:solidFill>
                <a:latin typeface="Arial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3651120" y="2063880"/>
          <a:ext cx="1951200" cy="1911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651120" y="2063880"/>
                    <a:ext cx="1951200" cy="191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15328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Introduction to Using Semgre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4191120"/>
            <a:ext cx="9144000" cy="8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loé Kidd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3716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rouping rel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o specify operation order, use [ and ]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: {tag:nn} [ &lt;prep_in {} | &lt;prep_on {} ] @ {#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noun that is the dependent of either a prep_in or prep_on relation and is aligned to NO_WORD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rouped relations can be nega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ust put ! before the [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3716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amed Rel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uppose we want to find two nodes connected by any relation which have a pair of nodes aligned to them with the same rel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ame relations with =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first showing of a named relation in a pattern is the one that is stored as the rel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{} &gt;/.*subj|agent/=reln {}) @ ({} &gt;=reln {}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 can retrieve the string form of the relation found in the graph later by using that na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3716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amed Nod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762120" y="175212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 can name nodes as well as rel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ame nodes with = and if the node matches, we can retrieve node by that na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: {} &lt;nsubj {}=ver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5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b with subject found by this pattern is stored by the name “verb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first showing of a named node in the pattern is the one stored under that name. All others must be equal to that first on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. ({} &gt;nsubj {}=subject} @ ({} &gt;nsubj ({} @ {}=subject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5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ds a node that is both the governor of an nsubj relation to a node called “subject” and aligned to a node that is the governor of an nsubj relation to a node aligned to the node labeled as “subject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3716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ptional Relations to Nod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51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ometimes we want to try to match a sub-expression to retrieve named nodes if they exist, but still match if sub-expression fail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se optional relation prefix ‘?’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: {} &gt;/nsubj|agent/ {}=subject ?&gt;/.*obj/ {}=obje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3680" indent="-281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ches nodes that are governors of nsubj or agent rel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3680" indent="-281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e node also is the governor of some sort of object relation, then, we can retrieve the object using the key “object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3680" indent="-281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ere is no object, the expression will still mat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annot be combined with neg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an be used in front of bracketed relations: ?[….]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716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se of Semgrex class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74640" y="1600200"/>
            <a:ext cx="7956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01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mgrex usage is lik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ava.util.reg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 ways of calling the matcher: for a single SemanticGrap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for two SemanticGraphs and an Alignment between th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09480" y="5091120"/>
            <a:ext cx="883944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cc0000"/>
                </a:solidFill>
                <a:latin typeface="Courier New"/>
              </a:rPr>
              <a:t>SemgrexMatcher m = p.matcher(hypGraph, alignment,  </a:t>
            </a:r>
            <a:r>
              <a:rPr b="1" lang="en-US" sz="2200" spc="-1" strike="noStrike">
                <a:solidFill>
                  <a:srgbClr val="cc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cc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cc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cc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cc0000"/>
                </a:solidFill>
                <a:latin typeface="Courier New"/>
              </a:rPr>
              <a:t>txtGraph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cc0000"/>
                </a:solidFill>
                <a:latin typeface="Courier New"/>
              </a:rPr>
              <a:t>while (m.find()) 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cc0000"/>
                </a:solidFill>
                <a:latin typeface="Courier New"/>
              </a:rPr>
              <a:t>   </a:t>
            </a:r>
            <a:r>
              <a:rPr b="1" lang="en-US" sz="2200" spc="-1" strike="noStrike">
                <a:solidFill>
                  <a:srgbClr val="cc0000"/>
                </a:solidFill>
                <a:latin typeface="Courier New"/>
              </a:rPr>
              <a:t>System.out.println(m.getMatch().word()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33520" y="1981080"/>
            <a:ext cx="9043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cc0000"/>
                </a:solidFill>
                <a:latin typeface="Courier New"/>
              </a:rPr>
              <a:t>String 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cc0000"/>
                </a:solidFill>
                <a:latin typeface="Courier New"/>
              </a:rPr>
              <a:t>   </a:t>
            </a:r>
            <a:r>
              <a:rPr b="1" lang="en-US" sz="2200" spc="-1" strike="noStrike">
                <a:solidFill>
                  <a:srgbClr val="cc0000"/>
                </a:solidFill>
                <a:latin typeface="Courier New"/>
              </a:rPr>
              <a:t>= “</a:t>
            </a:r>
            <a:r>
              <a:rPr b="0" lang="en-US" sz="2200" spc="-1" strike="noStrike">
                <a:solidFill>
                  <a:srgbClr val="cc0000"/>
                </a:solidFill>
                <a:latin typeface="Arial"/>
              </a:rPr>
              <a:t>({} &gt;nsubj {}=subject} @ ({} &gt;nsubj ({} @ {}=subject))”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cc0000"/>
                </a:solidFill>
                <a:latin typeface="Courier New"/>
              </a:rPr>
              <a:t>SemgrexPattern p = SemgrexPattern.compile(s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33520" y="3886200"/>
            <a:ext cx="7238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cc0000"/>
                </a:solidFill>
                <a:latin typeface="Courier New"/>
              </a:rPr>
              <a:t>SemgrexMatcher m = p.matcher(graph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3716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se of Semgrex class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930600" y="1981080"/>
            <a:ext cx="789228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cc0000"/>
                </a:solidFill>
                <a:latin typeface="Courier New"/>
              </a:rPr>
              <a:t>IndexedFeatureLabel subj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cc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cc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cc0000"/>
                </a:solidFill>
                <a:latin typeface="Courier New"/>
              </a:rPr>
              <a:t>= m.getNode(“subject”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cc0000"/>
                </a:solidFill>
                <a:latin typeface="Courier New"/>
              </a:rPr>
              <a:t>String subjReln = m.getRelnString(“subjReln”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1676520"/>
            <a:ext cx="8229600" cy="90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amed nodes are retrieved w/ 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getNode(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amed relations are retrieved w/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getRelnString(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3716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 Real Code Example - Befo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899172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private void checkCopula(Problem problem, SemanticGraph hypGraph, SemanticGraph txtGraph)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IndexedFeatureLabel root = hypGraph.getFirstRoot(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IndexedFeatureLabel subj = hypGraph.getChildWithReln(root, "nsubj"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if (subj != null)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IndexedFeatureLabel alignedRoot = problem.getTxtWord(root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if (alignedRoot != IndexedFeatureLabel.NO_WORD)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IndexedFeatureLabel appos = txtGraph.getChildWithReln(alignedRoot, "appos");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List&lt;IndexedFeatureLabel&gt; appositionLis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appositionList = txtGraph.getChildrenWithReln(problem.getTxtWord(subj), "nn");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} catch (IllegalArgumentException e)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appositionList = new ArrayList&lt;IndexedFeatureLabel&gt;(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if(appos != null)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if(problem.getTxtWord(subj).equals(appos))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problem.addFeature(this, Feature.APPOSITION_MATCH, "apposition in text between " + root.word() + " and " + subj.word()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else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problem.addFeature(this, Feature.APPOSITION_MISMATCH, "no apposition in text between " + root.word() + " and " + subj.word()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else if (!appositionList.isEmpty())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boolean appositionPositiveFiring = false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for (IndexedFeatureLabel apposition : appositionList)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if (alignedRoot.equals(appos))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problem.addFeature(this, Feature.APPOSITION_MATCH, "apposition in text between " + root.word() + " and " + subj.word()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appositionPositiveFiring = true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if (!appositionPositiveFiring)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problem.addFeature(this, Feature.APPOSITION_MISMATCH, "no apposition in text between " + root.word() + " and " + subj.word()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3716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 Real Code Example - Aft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1676520"/>
            <a:ext cx="8305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private void checkCopula(Problem problem, SemanticGraph hypGraph, SemanticGraph txtGraph)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IndexedFeatureLabel root = hypGraph.getFirstRoot(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if (checkAttributiveStructure(hypGraph) &amp;&amp; !checkAttributiveStructure(txtGraph))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if(VERBOSE) System.err.println("in check copula"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SemgrexPattern copulaPat = SemgrexPattern.compile("({}=subj &lt;nsubj ({$}=root @ {}=alignedRoot)) @ ({} [ [&gt;nn {}=alignedRoot] | [&lt;appos {}=alignedRoot]])"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SemgrexMatcher copulaMatcher = copulaPat.matcher(hypGraph, problem.getAlignment(), txtGraph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if (copulaMatcher.find())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problem.addFeature(this, Feature.APPOSITION_MATCH, "apposition in text between " + copulaMatcher.getNode("root").word() + " and " + copulaMatcher.getNode("subj").word()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problem.addFeature(this, Feature.APPOSITION_MISMATCH, "no apposition in text between " + copulaMatcher.getNode("root").word() + " and " + copulaMatcher.getNode("subj").word()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3716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 More Help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information and links to other sources of documentation are available 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6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lp.stanford.edu/software/tregex.shtm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you find a bug (i.e. a pattern that should work but doesn’t) or need more help, emai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6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ava-nlp-user@lists.stanford.ed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anks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716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is Semgrex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918560" cy="22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java utility (in javanlp) for identifying patterns in Stanford JavaNLP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emanticGrap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ch like Tregex, which does this for tree structures (Levy, Andrew 2006) and is based on tgrep-2 style syntax and functionality. (These slides adapted from the structure of their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lied the same way you use regular expressions to find patterns in stri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28760" y="2959200"/>
            <a:ext cx="66672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28760" y="6643800"/>
            <a:ext cx="66672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28760" y="2959200"/>
            <a:ext cx="1440" cy="487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8782200" y="2959200"/>
            <a:ext cx="1440" cy="487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095480" y="2959200"/>
            <a:ext cx="73332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28760" y="3446640"/>
            <a:ext cx="1440" cy="487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828800" y="2971800"/>
            <a:ext cx="119700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025800" y="2959200"/>
            <a:ext cx="90324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819520" y="2895480"/>
            <a:ext cx="1027080" cy="1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956120" y="2959200"/>
            <a:ext cx="72252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678640" y="2959200"/>
            <a:ext cx="95868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637320" y="2959200"/>
            <a:ext cx="126540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902720" y="2959200"/>
            <a:ext cx="87948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8782200" y="3446640"/>
            <a:ext cx="1440" cy="487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28760" y="3933720"/>
            <a:ext cx="1440" cy="487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782200" y="3933720"/>
            <a:ext cx="1440" cy="487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28760" y="4421160"/>
            <a:ext cx="1440" cy="487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8782200" y="4421160"/>
            <a:ext cx="1440" cy="487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28760" y="4908600"/>
            <a:ext cx="1440" cy="487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8782200" y="4908600"/>
            <a:ext cx="1440" cy="487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28760" y="5396040"/>
            <a:ext cx="1440" cy="487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782200" y="5396040"/>
            <a:ext cx="1440" cy="487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28760" y="5883120"/>
            <a:ext cx="1440" cy="760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8782200" y="5883120"/>
            <a:ext cx="1440" cy="760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095480" y="6643800"/>
            <a:ext cx="73332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828800" y="6643800"/>
            <a:ext cx="119700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25800" y="6643800"/>
            <a:ext cx="90324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929040" y="6643800"/>
            <a:ext cx="102708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956120" y="6643800"/>
            <a:ext cx="72252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678640" y="6643800"/>
            <a:ext cx="95868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637320" y="6643800"/>
            <a:ext cx="126540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902720" y="6643800"/>
            <a:ext cx="87948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2661840" y="3490920"/>
            <a:ext cx="2830320" cy="1690560"/>
            <a:chOff x="2661840" y="3490920"/>
            <a:chExt cx="2830320" cy="1690560"/>
          </a:xfrm>
        </p:grpSpPr>
        <p:sp>
          <p:nvSpPr>
            <p:cNvPr id="124" name=""/>
            <p:cNvSpPr/>
            <p:nvPr/>
          </p:nvSpPr>
          <p:spPr>
            <a:xfrm>
              <a:off x="3531600" y="3490920"/>
              <a:ext cx="1012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Lucida Sans"/>
                </a:rPr>
                <a:t>bough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661840" y="4813200"/>
              <a:ext cx="609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Lucida Sans"/>
                </a:rPr>
                <a:t>Bo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823640" y="4808520"/>
              <a:ext cx="668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Lucida Sans"/>
                </a:rPr>
                <a:t>shi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7" name=""/>
            <p:cNvCxnSpPr>
              <a:stCxn id="124" idx="2"/>
              <a:endCxn id="125" idx="0"/>
            </p:cNvCxnSpPr>
            <p:nvPr/>
          </p:nvCxnSpPr>
          <p:spPr>
            <a:xfrm flipV="1" rot="10800000">
              <a:off x="2964600" y="3973320"/>
              <a:ext cx="1073520" cy="724320"/>
            </a:xfrm>
            <a:prstGeom prst="bentConnector3">
              <a:avLst>
                <a:gd name="adj1" fmla="val 49983"/>
              </a:avLst>
            </a:prstGeom>
            <a:ln w="9360">
              <a:solidFill>
                <a:srgbClr val="000000"/>
              </a:solidFill>
              <a:round/>
            </a:ln>
          </p:spPr>
        </p:cxnSp>
        <p:cxnSp>
          <p:nvCxnSpPr>
            <p:cNvPr id="128" name=""/>
            <p:cNvCxnSpPr>
              <a:stCxn id="124" idx="2"/>
              <a:endCxn id="126" idx="0"/>
            </p:cNvCxnSpPr>
            <p:nvPr/>
          </p:nvCxnSpPr>
          <p:spPr>
            <a:xfrm>
              <a:off x="4037040" y="3973680"/>
              <a:ext cx="1117800" cy="7214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round/>
            </a:ln>
          </p:spPr>
        </p:cxnSp>
        <p:sp>
          <p:nvSpPr>
            <p:cNvPr id="129" name=""/>
            <p:cNvSpPr/>
            <p:nvPr/>
          </p:nvSpPr>
          <p:spPr>
            <a:xfrm>
              <a:off x="2880720" y="3990600"/>
              <a:ext cx="671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i="1" lang="en-US" sz="1600" spc="-1" strike="noStrike">
                  <a:solidFill>
                    <a:srgbClr val="3333cc"/>
                  </a:solidFill>
                  <a:latin typeface="Lucida Sans"/>
                </a:rPr>
                <a:t>nsubj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471920" y="3985920"/>
              <a:ext cx="581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i="1" lang="en-US" sz="1600" spc="-1" strike="noStrike">
                  <a:solidFill>
                    <a:srgbClr val="3333cc"/>
                  </a:solidFill>
                  <a:latin typeface="Lucida Sans"/>
                </a:rPr>
                <a:t>dobj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3956400" y="4635360"/>
            <a:ext cx="2616120" cy="1689120"/>
            <a:chOff x="3956400" y="4635360"/>
            <a:chExt cx="2616120" cy="1689120"/>
          </a:xfrm>
        </p:grpSpPr>
        <p:sp>
          <p:nvSpPr>
            <p:cNvPr id="132" name=""/>
            <p:cNvSpPr/>
            <p:nvPr/>
          </p:nvSpPr>
          <p:spPr>
            <a:xfrm>
              <a:off x="5087880" y="4635360"/>
              <a:ext cx="1825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956400" y="5956200"/>
              <a:ext cx="308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Lucida Sans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027480" y="5951520"/>
              <a:ext cx="54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Lucida Sans"/>
                </a:rPr>
                <a:t>r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5" name=""/>
            <p:cNvCxnSpPr>
              <a:stCxn id="132" idx="2"/>
              <a:endCxn id="133" idx="0"/>
            </p:cNvCxnSpPr>
            <p:nvPr/>
          </p:nvCxnSpPr>
          <p:spPr>
            <a:xfrm flipV="1" rot="10800000">
              <a:off x="4106160" y="5116320"/>
              <a:ext cx="1073520" cy="724320"/>
            </a:xfrm>
            <a:prstGeom prst="bentConnector3">
              <a:avLst>
                <a:gd name="adj1" fmla="val 49983"/>
              </a:avLst>
            </a:prstGeom>
            <a:ln w="9360">
              <a:solidFill>
                <a:srgbClr val="000000"/>
              </a:solidFill>
              <a:round/>
            </a:ln>
          </p:spPr>
        </p:cxnSp>
        <p:cxnSp>
          <p:nvCxnSpPr>
            <p:cNvPr id="136" name=""/>
            <p:cNvCxnSpPr>
              <a:stCxn id="132" idx="2"/>
              <a:endCxn id="134" idx="0"/>
            </p:cNvCxnSpPr>
            <p:nvPr/>
          </p:nvCxnSpPr>
          <p:spPr>
            <a:xfrm>
              <a:off x="5180040" y="5116680"/>
              <a:ext cx="1117800" cy="7214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round/>
            </a:ln>
          </p:spPr>
        </p:cxnSp>
        <p:sp>
          <p:nvSpPr>
            <p:cNvPr id="137" name=""/>
            <p:cNvSpPr/>
            <p:nvPr/>
          </p:nvSpPr>
          <p:spPr>
            <a:xfrm>
              <a:off x="4127400" y="5133600"/>
              <a:ext cx="465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i="1" lang="en-US" sz="1600" spc="-1" strike="noStrike">
                  <a:solidFill>
                    <a:srgbClr val="3333cc"/>
                  </a:solidFill>
                  <a:latin typeface="Lucida Sans"/>
                </a:rPr>
                <a:t>de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551560" y="5128920"/>
              <a:ext cx="704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i="1" lang="en-US" sz="1600" spc="-1" strike="noStrike">
                  <a:solidFill>
                    <a:srgbClr val="3333cc"/>
                  </a:solidFill>
                  <a:latin typeface="Lucida Sans"/>
                </a:rPr>
                <a:t>amo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9" name=""/>
          <p:cNvSpPr/>
          <p:nvPr/>
        </p:nvSpPr>
        <p:spPr>
          <a:xfrm rot="18360000">
            <a:off x="4810320" y="3261960"/>
            <a:ext cx="1422360" cy="3733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410080" y="380988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6400800"/>
            <a:ext cx="891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{tag:/VB.*/}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&gt;dobj ({} &gt;amod {lemma:red}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371600" y="37339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3716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mgrex Over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mgrexPatterns are composed of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nod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 representing IndexedWords, and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lation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between them, representing edges in a SemanticGrap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mgrexMatchers can be used on singular SemanticGraphs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n two SemanticGraphs and an Alignment between them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. an RTE problem has the hypothesis graph, the text graph, and the alignment from the hypothesis graph’s IndexedFeatureLabels to the text graph’s IndexedFeatureLab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mgrexPatterns return matches for IndexedFeatureLabels in a SemanticGrap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95280" y="358560"/>
            <a:ext cx="7243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yntax - Nod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8077320" cy="465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01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des are represented as {attr1:value1;attr2:value2;…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55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ttributes are regular strings; values can be strings or regular expressions marked by “/”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0000"/>
              </a:buClr>
              <a:buSzPct val="5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lemma:run;pos:/VB.*/}  =&gt; any verb form of the word “run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55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{} is any node in the grap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55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{$} is any root in the grap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55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{#} is the empty word (IndexedFeatureLabel.NO_WORD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0000"/>
              </a:buClr>
              <a:buSzPct val="5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es up when working with align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ptions can be negated with 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55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!{lemma:boy} =&gt; any word that isn’t “boy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3716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rouping Nod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830556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erhaps you want a node that is either word with an ner TIME tag, or the lemma “when”. The node {ner:TIME;lemma:when} does not accomplish this OR oper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an use brackets and | (or &amp;) to specify these grouping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 {lemma:locate} | {ner:LOCATION} 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0000"/>
              </a:buClr>
              <a:buSzPct val="5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node that is either a word with a lemma “locate” or a word with LOCATION 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also be negated by putting a ! In fro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y default, &amp; takes precedence over |, but &amp; has no reason to be us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716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yntax - Rel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79246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onships between nodes can be specif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ons in Semgrex have two parts: the relation symbol and the relation type: i.e. &lt;nsu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 &lt;reln B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: A is the dependent of a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reln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relation with 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 &gt;reln B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: A is the governor of a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reln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lation with 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 &lt;&lt;reln B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: There is some node in a dep-&gt;gov chain from A that is the dependent of a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reln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lation with 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 &gt;&gt;reln B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: There is some node in a gov&gt;dep chain from A that is the governor of a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reln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lation with 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 @ B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: A is aligned to B through an Alignment obj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on types can be regular strings or regular expressions encased by “/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uilding complex express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lations can be strung together for “and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relations are relative to first node in st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} &gt;nsubj {} &gt;dobj {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0000"/>
              </a:buClr>
              <a:buSzPct val="5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node that is the governor of both an nsubj relation and a dobj relation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amp; symbol is optional: {} &gt;nsubj {} &amp; &gt;dobj {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des can be grouped w/ parenthe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pos:NN} @ ({} &lt;nsubj {}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0000"/>
              </a:buClr>
              <a:buSzPct val="5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noun that is aligned to a node that is the dependent of an nsubj relation 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the same as {pos:NN} @ {} &lt;nsubj {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716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ther Operators on Rel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perators can be combined via “or” with |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: {} &lt;agent {} | &lt;nsubj {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node that is either an agent or a nsubj in the graph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ike with nodes, &amp; takes precedence over |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: {} &lt;agent {} | &lt;nsubj {} &amp; &gt;amod {lemma:red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agent node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 subject modified by the word ‘red’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ivalent operators are left-associ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y relation can be negated with “!” prefix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: {tag:/VB.*/} !@ {tag:/VB.*/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verb that is not aligned to another verb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3716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ther Operators on Rel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r times when the pattern will be being matched on a pair of graphs and their alignment, the default search point is the graph that where the alignments are fro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o override this, place a ‘@’ at the beginning of the patter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: for a hypGraph, txtGraph and alignment hyp-&gt;tx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ner:LOCATION} @ {}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0000"/>
              </a:buClr>
              <a:buSzPct val="5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resents all LOCATION nodes in the hypGraph aligned to nodes in the txtGrap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@ {ner:LOCATION} @ {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0000"/>
              </a:buClr>
              <a:buSzPct val="5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resents all LOCATION nodes in the txtGraph that are aligned to nodes in the hypGrap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0T20:42:46Z</dcterms:created>
  <dc:creator>Gates Rm. 454</dc:creator>
  <dc:description/>
  <dc:language>en-US</dc:language>
  <cp:lastModifiedBy>Chloe Kiddon</cp:lastModifiedBy>
  <dcterms:modified xsi:type="dcterms:W3CDTF">2006-08-24T18:05:51Z</dcterms:modified>
  <cp:revision>55</cp:revision>
  <dc:subject/>
  <dc:title>Introduction to Tregex</dc:title>
</cp:coreProperties>
</file>