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9AEA-7C56-4BAF-A25F-0038C93D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846E-A8C5-4342-A134-F535A42C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8DB4-EC61-47C8-9700-8DC0BE25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8E27-DAA2-478A-90BE-66DE72AE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7454-19B4-41E1-AF61-FFD1D05F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E996-FB9A-4120-8351-5E081E6A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57E4-DA41-4D3D-9F31-456ECE43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04C0-9A81-4D26-A434-27D1ED68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98E8-8AC7-4012-A601-8470AD8B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5E8F-B015-4CA7-9D6D-9E23A5DF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F98C-F173-431F-A793-805F627D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04B-0448-49C1-98DD-64A42806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9762-7E57-4DE7-B6C2-B79C686C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9EA6-5DCB-40DA-A812-F3996E04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2873-81C0-4CA1-B6B8-37672CF1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94F3-5103-4636-B6E6-04B58A4B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2268-5B34-4701-9BC6-E0B65BB0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E977-2C90-47BE-AC5A-590EF5C3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55FF-3E0E-47C8-97FD-58E3DF7E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1616-AD93-482E-8523-3EAC95AD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AEB3-B5E9-45F0-9D23-41F7DDAA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19FB-27CE-4F7D-8A49-ED8F2FBA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9579-A357-4AAF-9C51-BCA61EDD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F734-D8C8-478D-9CCC-2044C475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370160"/>
            <a:ext cx="8080560" cy="1555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09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1E2817-5553-4B51-90AD-19D9335D3E6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44360" y="512640"/>
          <a:ext cx="104004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512640"/>
                    <a:ext cx="104004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00316-B53F-4B14-AD4C-A03CDE930B86}" type="slidenum"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651120" y="2063880"/>
          <a:ext cx="1951200" cy="19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1120" y="2063880"/>
                    <a:ext cx="195120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ntroduction to Using Semgr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191120"/>
            <a:ext cx="91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é Kid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pecify operation order, use [ and 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nn} [ &lt;prep_in {} | &lt;prep_on {} ] @ {#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un that is the dependent of either a prep_in or prep_on relation and is aligned to NO_WO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ed relations can be neg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put ! before the 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want to find two nodes connected by any relation which have a pair of nodes aligned to them with the sam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relations with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relation in a pattern is the one that is stored as th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{} &gt;/.*subj|agent/=reln {}) @ ({} &gt;=reln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retrieve the string form of the relation found in the graph later by using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name nodes as well as 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nodes with = and if the node matches, we can retrieve node by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nsubj {}=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 with subject found by this pattern is stored by the name “ver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node in the pattern is the one stored under that name. All others must be equal to that first 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({} &gt;nsubj {}=subject} @ ({} &gt;nsubj ({} @ {}=subjec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s a node that is both the governor of an nsubj relation to a node called “subject” and aligned to a node that is the governor of an nsubj relation to a node aligned to the node labeled as “subjec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al Relations to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imes we want to try to match a sub-expression to retrieve named nodes if they exist, but still match if sub-expression fai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optional relation prefix ‘?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{} &gt;/nsubj|agent/ {}=subject ?&gt;/.*obj/ {}=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s nodes that are governors of nsubj or agent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de also is the governor of some sort of object relation, then, we can retrieve the object using the key “objec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object, the expression will still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not be combined with ne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used in front of bracketed relations: ?[….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4640" y="1600200"/>
            <a:ext cx="795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grex usage i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reg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s of calling the matcher: for a single Semantic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r two SemanticGraphs and an Alignment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091120"/>
            <a:ext cx="8839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hypGraph, alignment,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txt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while (m.find()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ystem.out.println(m.getMatch().word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981080"/>
            <a:ext cx="904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“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({} &gt;nsubj {}=subject} @ ({} &gt;nsubj ({} @ {}=subject))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Pattern p = SemgrexPattern.compile(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3886200"/>
            <a:ext cx="72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30600" y="1981080"/>
            <a:ext cx="789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IndexedFeatureLabel sub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m.getNode(“subject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ubjReln = m.getRelnString(“subjReln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76520"/>
            <a:ext cx="82296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node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Node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relation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RelnString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Bef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subj = hypGraph.getChildWithReln(root, "nsubj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subj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lignedRoot = problem.getTxtWord(roo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 != IndexedFeatureLabel.NO_WORD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ppos = txtGraph.getChildWithReln(alignedRoot, "appos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st&lt;IndexedFeatureLabel&gt; apposition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txtGraph.getChildrenWithReln(problem.getTxtWord(subj), "nn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catch (IllegalArgumentException e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new ArrayList&lt;IndexedFeatureLabel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appos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problem.getTxtWord(subj)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if (!appositionList.isEmpty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oolean appositionPositiveFiring = fal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or (IndexedFeatureLabel apposition : appositionList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PositiveFiring = tru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!appositionPositiveFiring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Af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heckAttributiveStructure(hypGraph) &amp;&amp; !checkAttributiveStructure(txtGraph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VERBOSE) System.err.println("in check copula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Pattern copulaPat = SemgrexPattern.compile("({}=subj &lt;nsubj ({$}=root @ {}=alignedRoot)) @ ({} [ [&gt;nn {}=alignedRoot] | [&lt;appos {}=alignedRoot]])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Matcher copulaMatcher = copulaPat.matcher(hypGraph, problem.getAlignment(), txtGraph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opulaMatcher.find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More Hel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information and links to other sources of documentation are available 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lp.stanford.edu/software/tregex.s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find a bug (i.e. a pattern that should work but doesn’t) or need more help, em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-nlp-user@lists.stanford.ed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Semgre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8560" cy="22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utility (in javanlp) for identifying patterns in Stanford JavaNL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like Tregex, which does this for tree structures (Levy, Andrew 2006) and is based on tgrep-2 style syntax and functionality. (These slides adapted from the structure of the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 the same way you use regular expressions to find patterns in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760" y="29592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8760" y="66438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76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78220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95480" y="29592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876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971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25800" y="29592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2895480"/>
            <a:ext cx="1027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6120" y="29592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78640" y="29592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37320" y="29592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02720" y="29592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8220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76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8220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876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78220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876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78220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876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8220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8220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5480" y="66438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6643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25800" y="66438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9040" y="6643800"/>
            <a:ext cx="10270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6120" y="66438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78640" y="66438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37320" y="66438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02720" y="66438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661840" y="3490920"/>
            <a:ext cx="2830320" cy="1690560"/>
            <a:chOff x="2661840" y="3490920"/>
            <a:chExt cx="2830320" cy="1690560"/>
          </a:xfrm>
        </p:grpSpPr>
        <p:sp>
          <p:nvSpPr>
            <p:cNvPr id="124" name=""/>
            <p:cNvSpPr/>
            <p:nvPr/>
          </p:nvSpPr>
          <p:spPr>
            <a:xfrm>
              <a:off x="3531600" y="3490920"/>
              <a:ext cx="10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Sans"/>
                </a:rPr>
                <a:t>bou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1840" y="4813200"/>
              <a:ext cx="60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B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23640" y="480852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shi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4" idx="2"/>
              <a:endCxn id="125" idx="0"/>
            </p:cNvCxnSpPr>
            <p:nvPr/>
          </p:nvCxnSpPr>
          <p:spPr>
            <a:xfrm flipV="1" rot="10800000">
              <a:off x="2964600" y="3973320"/>
              <a:ext cx="1073520" cy="72432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28" name=""/>
            <p:cNvCxnSpPr>
              <a:stCxn id="124" idx="2"/>
              <a:endCxn id="126" idx="0"/>
            </p:cNvCxnSpPr>
            <p:nvPr/>
          </p:nvCxnSpPr>
          <p:spPr>
            <a:xfrm>
              <a:off x="4037040" y="3973680"/>
              <a:ext cx="111780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29" name=""/>
            <p:cNvSpPr/>
            <p:nvPr/>
          </p:nvSpPr>
          <p:spPr>
            <a:xfrm>
              <a:off x="2880720" y="3990600"/>
              <a:ext cx="67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nsu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71920" y="398592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o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956400" y="4635360"/>
            <a:ext cx="2616120" cy="1689120"/>
            <a:chOff x="3956400" y="4635360"/>
            <a:chExt cx="2616120" cy="1689120"/>
          </a:xfrm>
        </p:grpSpPr>
        <p:sp>
          <p:nvSpPr>
            <p:cNvPr id="132" name=""/>
            <p:cNvSpPr/>
            <p:nvPr/>
          </p:nvSpPr>
          <p:spPr>
            <a:xfrm>
              <a:off x="5087880" y="4635360"/>
              <a:ext cx="182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56400" y="59562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27480" y="59515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32" idx="2"/>
              <a:endCxn id="133" idx="0"/>
            </p:cNvCxnSpPr>
            <p:nvPr/>
          </p:nvCxnSpPr>
          <p:spPr>
            <a:xfrm flipV="1" rot="10800000">
              <a:off x="4106160" y="5116320"/>
              <a:ext cx="1073520" cy="72432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36" name=""/>
            <p:cNvCxnSpPr>
              <a:stCxn id="132" idx="2"/>
              <a:endCxn id="134" idx="0"/>
            </p:cNvCxnSpPr>
            <p:nvPr/>
          </p:nvCxnSpPr>
          <p:spPr>
            <a:xfrm>
              <a:off x="5180040" y="5116680"/>
              <a:ext cx="111780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37" name=""/>
            <p:cNvSpPr/>
            <p:nvPr/>
          </p:nvSpPr>
          <p:spPr>
            <a:xfrm>
              <a:off x="4127400" y="513360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1560" y="512892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am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rot="18360000">
            <a:off x="4810320" y="3261960"/>
            <a:ext cx="1422360" cy="3733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3809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400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{tag:/VB.*/}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&gt;dobj ({} &gt;amod {lemma:red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mgrex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are composed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od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representing IndexedWords,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l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them, representing edge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Matchers can be used on singular SemanticGraph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wo SemanticGraphs and an Alignment between th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an RTE problem has the hypothesis graph, the text graph, and the alignment from the hypothesis graph’s IndexedFeatureLabels to the text graph’s IndexedFeature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return matches for IndexedFeatureLabel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358560"/>
            <a:ext cx="7243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6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represented as {attr1:value1;attr2:value2;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ributes are regular strings; values can be strings or regular expressions marked by “/”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lemma:run;pos:/VB.*/}  =&gt; any verb form of the word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} is any node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$} is any root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#} is the empty word (IndexedFeatureLabel.NO_WOR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s up when working with al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s can be negated with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!{lemma:boy} =&gt; any word that isn’t “bo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haps you want a node that is either word with an ner TIME tag, or the lemma “when”. The node {ner:TIME;lemma:when} does not accomplish this OR 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brackets and | (or &amp;) to specify these group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{lemma:locate} | {ner:LOCATION}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either a word with a lemma “locate” or a word with LOCATION 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be negated by putting a ! In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default, &amp; takes precedence over |, but &amp; has no reason to be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between nodes can be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in Semgrex have two parts: the relation symbol and the relation type: i.e. &lt;nsu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dep-&gt;gov chain from A that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gov&gt;dep chain from A that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@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aligned to B through an Alignment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types can be regular strings or regular expressions encased by “/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complex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ons can be strung together for “and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lations are relative to first node in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} &gt;nsubj {}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the governor of both an nsubj relation and a dobj rel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symbol is optional: {} &gt;nsubj {} &amp;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can be grouped w/ parenth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pos:NN} @ ({} &lt;nsubj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un that is aligned to a node that is the dependent of an nsubj relation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same as {pos:NN} @ {}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ors can be combined via “or” with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de that is either an agent or a nsubj in the grap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 with nodes, &amp; takes precedence over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 &amp; &gt;amod {lemma:re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ent nod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ubject modified by the word ‘red’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operators are left-assoc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relation can be negated with “!” pref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/VB.*/} !@ {tag:/VB.*/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verb that is not aligned to another ver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imes when the pattern will be being matched on a pair of graphs and their alignment, the default search point is the graph that where the alignments are f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override this, place a ‘@’ at the beginning of the patt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for a hypGraph, txtGraph and alignment hyp-&gt;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ner:LOCATION} @ {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hypGraph aligned to nodes in the txt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 {ner:LOCATION} @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txtGraph that are aligned to nodes in the hyp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20:42:46Z</dcterms:created>
  <dc:creator>Gates Rm. 454</dc:creator>
  <dc:description/>
  <dc:language>en-US</dc:language>
  <cp:lastModifiedBy>Chloe Kiddon</cp:lastModifiedBy>
  <dcterms:modified xsi:type="dcterms:W3CDTF">2006-08-24T18:05:51Z</dcterms:modified>
  <cp:revision>55</cp:revision>
  <dc:subject/>
  <dc:title>Introduction to Tregex</dc:title>
</cp:coreProperties>
</file>